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BB9-0AF1-435A-9011-5F30EF79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27D-E3B2-4C4B-9B96-A953EE4F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F3C-7FE2-4EB6-8C40-18E62232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877-5E89-4B4C-8C80-21D35C5B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5E0-B53E-46B4-88BD-E02692AB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8F9-BE4C-473B-9AEC-29154149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ED0-64F4-473F-B521-FA90F16D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5D20-98AF-4AE7-89CD-44AA88D9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A9B5-8B4B-485E-9F38-D9B32E39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37D7-B4D1-4E6C-9D00-613C7E5A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6D80-1466-4C9C-837E-26D1C87D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6BB5-FA07-4893-882A-895B180B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115A-3057-4D98-AF21-72AD0CA904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70000" contrast="-70000"/>
          </a:blip>
          <a:srcRect l="0" t="0" r="24379" b="15066"/>
          <a:stretch/>
        </p:blipFill>
        <p:spPr>
          <a:xfrm>
            <a:off x="5688000" y="3457440"/>
            <a:ext cx="3457440" cy="34005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2448000" cy="108756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orenzo@econ.unicen.edu.ar" TargetMode="External"/><Relationship Id="rId2" Type="http://schemas.openxmlformats.org/officeDocument/2006/relationships/hyperlink" Target="mailto:camio@econ.unicen.edu.a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0. Hacia un modelo de funcionamiento organizacional. (2000/2002)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1. Diseño de configuraciones organizacionales en relación con los paradigmas culturales dominantes. Caso de PyMES de la zona de influencia de la UNICEN. (2003/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5176800"/>
            <a:ext cx="79182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irector del Proyec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los Lorenzo –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orenzo@econ.unicen.edu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laboración con el director en todas las actividades adju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Jefa de  trabajo de camp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. Isabel Camio –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amio@econ.unicen.edu.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01560" y="2455920"/>
            <a:ext cx="793908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1. Una nueva etapa 2003 - 200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iseño de configuraciones organizacionales en relación a los paradigmas culturales dominante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aso de PyMES de la zona 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fluencia de la UNICEN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63044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finir cada uno de los paradigmas culturales identificando las presunciones constituyentes y su  interrelación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tectar las relaciones entre los paradigmas y las variables del modelo HEPTA, definiendo sus límites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finir claramente el alcance conceptual de las configuraciones a que se arribe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Testear su aplicabilidad como instrumento de diagnóstico para las PyMES argentinas y seleccionar herramientas   administrativas aplicables para cada configuració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pres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274680"/>
            <a:ext cx="555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bjetivos específicos con instrumentación metodológ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1772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HIPÓTESIS DE LOS PARADIGMAS</a:t>
            </a:r>
            <a:br>
              <a:rPr sz="24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posible explicar la vinculación causal entre los esquemas de presunciones de un grupo y los paradigmas que sustentan la forma en que los miembros de un grupo perciben, conciben, sienten y juzgan las situaciones y las relaciones.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aradigma se puede modificar en el tiempo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274680"/>
            <a:ext cx="555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ipótesis e indicadores empíricos para la contras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1772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HIPÓTESIS DE CONFIGURACIONES</a:t>
            </a:r>
            <a:br>
              <a:rPr sz="2400"/>
            </a:b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posible explicar la vinculación causal entre los paradigmas culturales y las configuraciones organizacionales.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configuración organizacional se modifica a partir de las variaciones en el tiempo, del paradigma cultural.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elementos Contexto, Cultura, Estrategia, Liderazgo, Comunicación, Poder y Estructura son útiles para describir la configuración organizacional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274680"/>
            <a:ext cx="555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ipótesis e indicadores empíricos para la contras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00" y="274680"/>
            <a:ext cx="555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30440"/>
            <a:ext cx="82296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 Establecer las características de cada uno de los Paradigma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 Relevamiento de los Paradigmas en las empresas seleccionada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  Ajuste, de acuerdo al relevamiento, de las características d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aradigmas. Realización de Inferencias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 . Redacción del Informe de la primera etapa del estudio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.  Diseño de la Configuración a partir de los Paradigmas Cultural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.  Relación evolutiva de las Configuracion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.  Relevamiento de las Configuraciones en las empresas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leccionada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.  Realización de ajustes e inferencias de la contrastación en las configuraciones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. Redacción del informe final del proyec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7596360" y="1628640"/>
            <a:ext cx="215640" cy="1944720"/>
          </a:xfrm>
          <a:custGeom>
            <a:avLst/>
            <a:gdLst>
              <a:gd name="textAreaLeft" fmla="*/ 0 w 215640"/>
              <a:gd name="textAreaRight" fmla="*/ 77760 w 215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7596360" y="4076640"/>
            <a:ext cx="215640" cy="2305080"/>
          </a:xfrm>
          <a:custGeom>
            <a:avLst/>
            <a:gdLst>
              <a:gd name="textAreaLeft" fmla="*/ 0 w 215640"/>
              <a:gd name="textAreaRight" fmla="*/ 77760 w 21564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7596360" y="3573360"/>
            <a:ext cx="176040" cy="503280"/>
          </a:xfrm>
          <a:custGeom>
            <a:avLst/>
            <a:gdLst>
              <a:gd name="textAreaLeft" fmla="*/ 0 w 176040"/>
              <a:gd name="textAreaRight" fmla="*/ 63360 w 1760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7920000" y="2349360"/>
            <a:ext cx="106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REALIZAD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7850880" y="3573360"/>
            <a:ext cx="11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EN PROCES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7844760" y="5000760"/>
            <a:ext cx="121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12193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46280" y="1560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129120" y="714240"/>
            <a:ext cx="43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PARADIGMAS -PROPUE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511200" y="1763640"/>
            <a:ext cx="61153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ase de Los Paradigmas: Naturalezas de E. Sche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Relación de la humanidad con la naturalez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28954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438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33526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7339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2743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530000" y="2819520"/>
            <a:ext cx="42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a naturaleza de la realidad y la ver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1530000" y="3200400"/>
            <a:ext cx="35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a naturaleza del género huma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1530000" y="3657600"/>
            <a:ext cx="39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a naturaleza de la actividad huma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530360" y="411480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a naturaleza de las relaciones human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41148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2096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94440" y="5283360"/>
            <a:ext cx="627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- Análisis de la evolución hacia el paradigma del Heptacub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508560" y="838080"/>
            <a:ext cx="362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o de ca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mpresas relev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1905120"/>
          <a:ext cx="5451480" cy="400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5451480" cy="40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5871240" y="2666880"/>
            <a:ext cx="29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nfoque clín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ntrevistas en profund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943600" y="3733920"/>
            <a:ext cx="2590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9280" y="1120680"/>
            <a:ext cx="89647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132000" y="274680"/>
            <a:ext cx="555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ducción del Proyec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630440"/>
            <a:ext cx="82296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 El beneficio en la docencia: programas, contenidos y actividades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Los trabajos publicados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 La difusión en jornadas y congresos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 El doctorado y las tesi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2362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27432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3264840" y="224640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Dirección Gener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3280320" y="266688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dministración General 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2952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2679480"/>
            <a:ext cx="8062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0.  Hacia un modelo de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funcionamiento organizacional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2000/20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organización como solucionadora de problemas a través de etapas del proces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TAPAS DE TRATAMIEN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UNCIA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ATOS / INFORMAC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EO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ANALISIS / PLANE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CION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EC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UEST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NFLUENCIA / COMUNI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UEBA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EVALUACION / REALIMENTAC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32000" y="27432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6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ción de los aspectos emocionales en las decisiones         EMORACION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7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método de procesamiento de cada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sistémico: Conceptos “puente” que relacionan las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rocesos integra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5653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274680"/>
            <a:ext cx="555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ODELO HEPTA: Características Diferenci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8200" y="1486080"/>
            <a:ext cx="8066160" cy="5276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132000" y="274680"/>
            <a:ext cx="555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ARIABLES - PROCE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4200" y="2276640"/>
            <a:ext cx="8713800" cy="396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32000" y="274680"/>
            <a:ext cx="555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ODELO SISTEMI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conceptos pu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24000" y="1557360"/>
            <a:ext cx="8424360" cy="5040000"/>
            <a:chOff x="324000" y="1557360"/>
            <a:chExt cx="8424360" cy="5040000"/>
          </a:xfrm>
        </p:grpSpPr>
        <p:sp>
          <p:nvSpPr>
            <p:cNvPr id="57" name=""/>
            <p:cNvSpPr/>
            <p:nvPr/>
          </p:nvSpPr>
          <p:spPr>
            <a:xfrm>
              <a:off x="1371600" y="1557360"/>
              <a:ext cx="6400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Arial"/>
                </a:rPr>
                <a:t>Comunicación – Poder – Cultur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324000" y="2062080"/>
              <a:ext cx="8424360" cy="4535280"/>
              <a:chOff x="324000" y="2062080"/>
              <a:chExt cx="8424360" cy="4535280"/>
            </a:xfrm>
          </p:grpSpPr>
          <p:sp>
            <p:nvSpPr>
              <p:cNvPr id="59" name=""/>
              <p:cNvSpPr/>
              <p:nvPr/>
            </p:nvSpPr>
            <p:spPr>
              <a:xfrm>
                <a:off x="3205080" y="2062080"/>
                <a:ext cx="2230200" cy="5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RESPONSABILIDA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MPARTIDA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205080" y="2638440"/>
                <a:ext cx="2230200" cy="28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ENUNCIADO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240000" y="4294080"/>
                <a:ext cx="2231640" cy="5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EVALUACION DEL GRADO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DE CONFIANZA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240000" y="4870440"/>
                <a:ext cx="2231640" cy="28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PRUEBA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40000" y="5662440"/>
                <a:ext cx="2231640" cy="5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MODELO DE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INTEGRACION DE VALORES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240000" y="6238800"/>
                <a:ext cx="2231640" cy="28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PLANTEO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24000" y="3430440"/>
                <a:ext cx="2233440" cy="5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MPORTAMIENTOS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JUSTADOS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24000" y="4006800"/>
                <a:ext cx="2233440" cy="28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LUCION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373800" y="3430440"/>
                <a:ext cx="2229840" cy="5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EXPRESION DE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COMPROMISO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73800" y="4006800"/>
                <a:ext cx="2229840" cy="28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RESPUESTA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516720" y="5734080"/>
                <a:ext cx="2231640" cy="57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GENERACION DE CAPITAL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OCIAL E INTELIGENCIA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EMOCIONAL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516720" y="6310080"/>
                <a:ext cx="2231640" cy="28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FINALIDA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cxnSp>
            <p:nvCxnSpPr>
              <p:cNvPr id="71" name=""/>
              <p:cNvCxnSpPr>
                <a:stCxn id="65" idx="0"/>
                <a:endCxn id="59" idx="1"/>
              </p:cNvCxnSpPr>
              <p:nvPr/>
            </p:nvCxnSpPr>
            <p:spPr>
              <a:xfrm flipH="1" flipV="1" rot="5400000">
                <a:off x="1783080" y="2008440"/>
                <a:ext cx="1080360" cy="1764000"/>
              </a:xfrm>
              <a:prstGeom prst="curvedConnector2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2" name=""/>
              <p:cNvCxnSpPr>
                <a:stCxn id="59" idx="3"/>
                <a:endCxn id="67" idx="0"/>
              </p:cNvCxnSpPr>
              <p:nvPr/>
            </p:nvCxnSpPr>
            <p:spPr>
              <a:xfrm>
                <a:off x="5435280" y="2350440"/>
                <a:ext cx="2054520" cy="1080360"/>
              </a:xfrm>
              <a:prstGeom prst="curvedConnector2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3" name=""/>
              <p:cNvCxnSpPr>
                <a:stCxn id="68" idx="2"/>
                <a:endCxn id="61" idx="3"/>
              </p:cNvCxnSpPr>
              <p:nvPr/>
            </p:nvCxnSpPr>
            <p:spPr>
              <a:xfrm rot="5400000">
                <a:off x="6335640" y="3429720"/>
                <a:ext cx="289440" cy="2018160"/>
              </a:xfrm>
              <a:prstGeom prst="curvedConnector2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" name=""/>
              <p:cNvCxnSpPr>
                <a:stCxn id="68" idx="2"/>
                <a:endCxn id="63" idx="3"/>
              </p:cNvCxnSpPr>
              <p:nvPr/>
            </p:nvCxnSpPr>
            <p:spPr>
              <a:xfrm rot="5400000">
                <a:off x="5651280" y="4114080"/>
                <a:ext cx="1658160" cy="2018160"/>
              </a:xfrm>
              <a:prstGeom prst="curvedConnector2">
                <a:avLst/>
              </a:prstGeom>
              <a:ln w="572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75" name=""/>
              <p:cNvCxnSpPr>
                <a:endCxn id="66" idx="2"/>
              </p:cNvCxnSpPr>
              <p:nvPr/>
            </p:nvCxnSpPr>
            <p:spPr>
              <a:xfrm rot="10800000">
                <a:off x="1440720" y="4293360"/>
                <a:ext cx="1764000" cy="1658160"/>
              </a:xfrm>
              <a:prstGeom prst="curvedConnector2">
                <a:avLst/>
              </a:prstGeom>
              <a:ln w="572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76" name=""/>
              <p:cNvCxnSpPr>
                <a:stCxn id="61" idx="1"/>
                <a:endCxn id="66" idx="2"/>
              </p:cNvCxnSpPr>
              <p:nvPr/>
            </p:nvCxnSpPr>
            <p:spPr>
              <a:xfrm rot="10800000">
                <a:off x="1440720" y="4293360"/>
                <a:ext cx="1798920" cy="289440"/>
              </a:xfrm>
              <a:prstGeom prst="curvedConnector2">
                <a:avLst/>
              </a:prstGeom>
              <a:ln w="572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77" name=""/>
              <p:cNvCxnSpPr>
                <a:stCxn id="69" idx="1"/>
                <a:endCxn id="61" idx="3"/>
              </p:cNvCxnSpPr>
              <p:nvPr/>
            </p:nvCxnSpPr>
            <p:spPr>
              <a:xfrm flipH="1" flipV="1">
                <a:off x="5471280" y="4582800"/>
                <a:ext cx="1045080" cy="144036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  <p:sp>
        <p:nvSpPr>
          <p:cNvPr id="78" name=""/>
          <p:cNvSpPr/>
          <p:nvPr/>
        </p:nvSpPr>
        <p:spPr>
          <a:xfrm>
            <a:off x="3132000" y="274680"/>
            <a:ext cx="555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aproceso 1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neración de Capital Social e Inteligencia Emo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324000" y="1616040"/>
            <a:ext cx="8424360" cy="4979880"/>
            <a:chOff x="324000" y="1616040"/>
            <a:chExt cx="8424360" cy="4979880"/>
          </a:xfrm>
        </p:grpSpPr>
        <p:sp>
          <p:nvSpPr>
            <p:cNvPr id="80" name=""/>
            <p:cNvSpPr/>
            <p:nvPr/>
          </p:nvSpPr>
          <p:spPr>
            <a:xfrm>
              <a:off x="1155600" y="1616040"/>
              <a:ext cx="64004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Arial"/>
                </a:rPr>
                <a:t>Estrategi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05080" y="2060640"/>
              <a:ext cx="223020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APITAL INTELECTUA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05080" y="2637000"/>
              <a:ext cx="223020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NUNCIADO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0" y="4292640"/>
              <a:ext cx="223164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VALUACION DEL VALOR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ARA LOS USUARIO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40000" y="4869000"/>
              <a:ext cx="22316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RUEB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0" y="5661000"/>
              <a:ext cx="223164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MODELO D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GESTION DEL CONOCIMIENTO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40000" y="6237360"/>
              <a:ext cx="22316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LANTEO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3429000"/>
              <a:ext cx="223344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INNOVAC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4000" y="4005360"/>
              <a:ext cx="22334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OLUC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73800" y="3429000"/>
              <a:ext cx="222984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NOCIMIENTO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ISTRIBUIDO EN RE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73800" y="4005360"/>
              <a:ext cx="2229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RESPUEST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16720" y="5732640"/>
              <a:ext cx="2231640" cy="57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PRENDIZAJ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REAC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6720" y="6308640"/>
              <a:ext cx="22316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FINALIDA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93" name=""/>
            <p:cNvCxnSpPr>
              <a:stCxn id="87" idx="0"/>
              <a:endCxn id="81" idx="1"/>
            </p:cNvCxnSpPr>
            <p:nvPr/>
          </p:nvCxnSpPr>
          <p:spPr>
            <a:xfrm flipH="1" flipV="1" rot="5400000">
              <a:off x="1783080" y="2007000"/>
              <a:ext cx="1080360" cy="1764000"/>
            </a:xfrm>
            <a:prstGeom prst="curvedConnector2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4" name=""/>
            <p:cNvCxnSpPr>
              <a:stCxn id="81" idx="3"/>
              <a:endCxn id="89" idx="0"/>
            </p:cNvCxnSpPr>
            <p:nvPr/>
          </p:nvCxnSpPr>
          <p:spPr>
            <a:xfrm>
              <a:off x="5435280" y="2349000"/>
              <a:ext cx="2054520" cy="1080360"/>
            </a:xfrm>
            <a:prstGeom prst="curvedConnector2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5" name=""/>
            <p:cNvCxnSpPr>
              <a:stCxn id="90" idx="2"/>
              <a:endCxn id="83" idx="3"/>
            </p:cNvCxnSpPr>
            <p:nvPr/>
          </p:nvCxnSpPr>
          <p:spPr>
            <a:xfrm rot="5400000">
              <a:off x="6335640" y="3428280"/>
              <a:ext cx="289440" cy="2018160"/>
            </a:xfrm>
            <a:prstGeom prst="curvedConnector2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6" name=""/>
            <p:cNvCxnSpPr>
              <a:stCxn id="90" idx="2"/>
              <a:endCxn id="85" idx="3"/>
            </p:cNvCxnSpPr>
            <p:nvPr/>
          </p:nvCxnSpPr>
          <p:spPr>
            <a:xfrm rot="5400000">
              <a:off x="5651280" y="4112640"/>
              <a:ext cx="1658160" cy="2018160"/>
            </a:xfrm>
            <a:prstGeom prst="curvedConnector2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7" name=""/>
            <p:cNvCxnSpPr>
              <a:endCxn id="88" idx="2"/>
            </p:cNvCxnSpPr>
            <p:nvPr/>
          </p:nvCxnSpPr>
          <p:spPr>
            <a:xfrm rot="10800000">
              <a:off x="1440720" y="4291920"/>
              <a:ext cx="1764000" cy="1658160"/>
            </a:xfrm>
            <a:prstGeom prst="curvedConnector2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8" name=""/>
            <p:cNvCxnSpPr>
              <a:stCxn id="83" idx="1"/>
              <a:endCxn id="88" idx="2"/>
            </p:cNvCxnSpPr>
            <p:nvPr/>
          </p:nvCxnSpPr>
          <p:spPr>
            <a:xfrm rot="10800000">
              <a:off x="1440720" y="4291920"/>
              <a:ext cx="1798920" cy="289440"/>
            </a:xfrm>
            <a:prstGeom prst="curvedConnector2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9" name=""/>
            <p:cNvCxnSpPr>
              <a:stCxn id="91" idx="1"/>
              <a:endCxn id="83" idx="3"/>
            </p:cNvCxnSpPr>
            <p:nvPr/>
          </p:nvCxnSpPr>
          <p:spPr>
            <a:xfrm flipH="1" flipV="1">
              <a:off x="5471280" y="4581360"/>
              <a:ext cx="1045080" cy="14403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0" name=""/>
          <p:cNvSpPr/>
          <p:nvPr/>
        </p:nvSpPr>
        <p:spPr>
          <a:xfrm>
            <a:off x="3132000" y="274680"/>
            <a:ext cx="555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aproceso 2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ón del Conocimien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6019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324000" y="1628640"/>
            <a:ext cx="8424360" cy="5040360"/>
            <a:chOff x="324000" y="1628640"/>
            <a:chExt cx="8424360" cy="5040360"/>
          </a:xfrm>
        </p:grpSpPr>
        <p:sp>
          <p:nvSpPr>
            <p:cNvPr id="103" name=""/>
            <p:cNvSpPr/>
            <p:nvPr/>
          </p:nvSpPr>
          <p:spPr>
            <a:xfrm>
              <a:off x="3240000" y="1628640"/>
              <a:ext cx="223020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APACIDADES INDIVIDUALE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IVEL DE EMPOWERMEN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40000" y="2205000"/>
              <a:ext cx="223020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NUNCIADO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40000" y="4005000"/>
              <a:ext cx="223164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IVEL DE EFECTIVIDA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INERGI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40000" y="4581360"/>
              <a:ext cx="22316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RUEB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000" y="5805360"/>
              <a:ext cx="223164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MODELO DE TRABAJO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N EQUIPO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000" y="6381720"/>
              <a:ext cx="22316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LANTEO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00" y="2997000"/>
              <a:ext cx="223344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ISEÑO DE EQUIPO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00" y="3573360"/>
              <a:ext cx="22334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OLUC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73800" y="2997000"/>
              <a:ext cx="222984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RESPONSABILIDA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MPARTID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73800" y="3573360"/>
              <a:ext cx="2229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RESPUEST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16720" y="5518080"/>
              <a:ext cx="223164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PRENDIZAJ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16720" y="6094440"/>
              <a:ext cx="22316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FINALIDA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15" name=""/>
            <p:cNvCxnSpPr>
              <a:stCxn id="109" idx="0"/>
              <a:endCxn id="103" idx="1"/>
            </p:cNvCxnSpPr>
            <p:nvPr/>
          </p:nvCxnSpPr>
          <p:spPr>
            <a:xfrm flipH="1" flipV="1" rot="5400000">
              <a:off x="1800360" y="1557720"/>
              <a:ext cx="1080000" cy="1798920"/>
            </a:xfrm>
            <a:prstGeom prst="curvedConnector2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6" name=""/>
            <p:cNvCxnSpPr>
              <a:stCxn id="103" idx="3"/>
              <a:endCxn id="111" idx="0"/>
            </p:cNvCxnSpPr>
            <p:nvPr/>
          </p:nvCxnSpPr>
          <p:spPr>
            <a:xfrm>
              <a:off x="5470560" y="1917720"/>
              <a:ext cx="2019600" cy="1080000"/>
            </a:xfrm>
            <a:prstGeom prst="curvedConnector2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7" name=""/>
            <p:cNvCxnSpPr>
              <a:stCxn id="112" idx="2"/>
              <a:endCxn id="105" idx="3"/>
            </p:cNvCxnSpPr>
            <p:nvPr/>
          </p:nvCxnSpPr>
          <p:spPr>
            <a:xfrm rot="5400000">
              <a:off x="6263280" y="3068640"/>
              <a:ext cx="434160" cy="2018160"/>
            </a:xfrm>
            <a:prstGeom prst="curvedConnector2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8" name=""/>
            <p:cNvCxnSpPr>
              <a:stCxn id="112" idx="2"/>
              <a:endCxn id="107" idx="3"/>
            </p:cNvCxnSpPr>
            <p:nvPr/>
          </p:nvCxnSpPr>
          <p:spPr>
            <a:xfrm rot="5400000">
              <a:off x="5363280" y="3968640"/>
              <a:ext cx="2234520" cy="2018160"/>
            </a:xfrm>
            <a:prstGeom prst="curvedConnector2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9" name=""/>
            <p:cNvCxnSpPr>
              <a:stCxn id="107" idx="1"/>
              <a:endCxn id="110" idx="2"/>
            </p:cNvCxnSpPr>
            <p:nvPr/>
          </p:nvCxnSpPr>
          <p:spPr>
            <a:xfrm rot="10800000">
              <a:off x="1440720" y="3859920"/>
              <a:ext cx="1798920" cy="2234520"/>
            </a:xfrm>
            <a:prstGeom prst="curvedConnector2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0" name=""/>
            <p:cNvCxnSpPr>
              <a:stCxn id="105" idx="1"/>
              <a:endCxn id="110" idx="2"/>
            </p:cNvCxnSpPr>
            <p:nvPr/>
          </p:nvCxnSpPr>
          <p:spPr>
            <a:xfrm rot="10800000">
              <a:off x="1440720" y="3859920"/>
              <a:ext cx="1798920" cy="434160"/>
            </a:xfrm>
            <a:prstGeom prst="curvedConnector2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1" name=""/>
            <p:cNvCxnSpPr>
              <a:stCxn id="113" idx="1"/>
              <a:endCxn id="105" idx="3"/>
            </p:cNvCxnSpPr>
            <p:nvPr/>
          </p:nvCxnSpPr>
          <p:spPr>
            <a:xfrm flipH="1" flipV="1">
              <a:off x="5471280" y="4293720"/>
              <a:ext cx="1045080" cy="15134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2" name=""/>
            <p:cNvSpPr/>
            <p:nvPr/>
          </p:nvSpPr>
          <p:spPr>
            <a:xfrm>
              <a:off x="3257280" y="1917720"/>
              <a:ext cx="21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132000" y="274680"/>
            <a:ext cx="555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aproceso 3.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o efectivo en Equipo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iderazgo / Estruct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15:44:39Z</dcterms:created>
  <dc:creator>Beto</dc:creator>
  <dc:description/>
  <dc:language>en-US</dc:language>
  <cp:lastModifiedBy>Notebook-03</cp:lastModifiedBy>
  <dcterms:modified xsi:type="dcterms:W3CDTF">2003-10-17T15:23:08Z</dcterms:modified>
  <cp:revision>53</cp:revision>
  <dc:subject/>
  <dc:title>MODELO HEP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86465499</vt:r8>
  </property>
  <property fmtid="{D5CDD505-2E9C-101B-9397-08002B2CF9AE}" pid="3" name="_AuthorEmail">
    <vt:lpwstr>proveedoresmonarca@speedy.com.ar</vt:lpwstr>
  </property>
  <property fmtid="{D5CDD505-2E9C-101B-9397-08002B2CF9AE}" pid="4" name="_AuthorEmailDisplayName">
    <vt:lpwstr>Supermercados Monarca</vt:lpwstr>
  </property>
  <property fmtid="{D5CDD505-2E9C-101B-9397-08002B2CF9AE}" pid="5" name="_EmailSubject">
    <vt:lpwstr>Archivo Presentacion HEPTA</vt:lpwstr>
  </property>
  <property fmtid="{D5CDD505-2E9C-101B-9397-08002B2CF9AE}" pid="6" name="_ReviewingToolsShownOnce">
    <vt:lpwstr/>
  </property>
</Properties>
</file>