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6E2-B27F-4B93-8B2D-5760C94D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8F4-E6D8-4719-874D-28B44109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E11-34EA-4205-B159-39448705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282-1039-4FC4-AAB5-39B434E1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6441-9331-4B4F-9A00-0C5634A9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87ED-42DF-429D-BA75-106FB164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B9F7-C53C-4CE6-BB1D-023857B5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D5A2-F463-495C-BF06-4A078856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7B57-0CE9-405D-8385-8552E990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7A63-6A47-4A6E-9B8C-9EBE0CC8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A087-6286-4AFB-ADCA-09966E9F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DB1-A713-4DB8-8A41-29CD5C4C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A8A6-AB56-4093-9C95-BFE7F680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9835-551F-4D6E-84EE-14D7EA07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2C80-3914-4093-A665-3DE27E2F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5B03-A445-45B0-94FE-C3AF5A57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B208-95E5-45D8-B6B9-AD4F4AD4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39B-8B9F-4E92-B842-FDBC45A3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EBC-8649-42FC-A5DD-2C8766E0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BD8-14D7-4C1E-90DE-E9CDBB67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EC7-3016-44B6-9DD0-C9B7D49D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B00-A96A-4E04-90A6-5745DD12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F18-6246-44F7-9E19-E5FE6E67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1E7-488C-454C-B62F-3BB83CAE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0" cy="6854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D87E-4265-4FFC-A549-07A524483C8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5659-7AB7-4C4F-8B1F-1B364603ED1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00ffff"/>
                </a:solidFill>
                <a:latin typeface="Times New Roman"/>
              </a:rPr>
              <a:t>Grupo Finanzas</a:t>
            </a:r>
            <a:br>
              <a:rPr sz="4800"/>
            </a:br>
            <a:r>
              <a:rPr b="0" lang="es-AR" sz="3600" spc="-1" strike="noStrike">
                <a:solidFill>
                  <a:srgbClr val="00ffff"/>
                </a:solidFill>
                <a:latin typeface="Times New Roman"/>
              </a:rPr>
              <a:t>CEAE - FC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Linea de investigació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y actividad en el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6400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iciembre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20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imas reconocidas en el rendimiento de empresas cotizantes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 estimó un modelo de regresión de corte transversal,  para así considerar a lo largo de varios períodos de tiempo los efectos de 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las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ariables 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antes menciona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imas reconocidas en el rendimiento de empresas cotizantes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sul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3240" indent="-6094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75000"/>
              <a:buFont typeface="Times New Roman"/>
              <a:buAutoNum type="arabicPeriod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Sustancial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ejora de la capacidad explicativa del modelo de valoración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l incorporar como variables explicativas las primas asociadas al diferencial de rentabilidad entre empresas de menor dimensión y de mayor tamaño, y al diferencial de rentabilidad entre empresas con peor y mejor valoración P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imas reconocidas en el rendimiento de empresas cotizantes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sul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3240" indent="-609480">
              <a:spcBef>
                <a:spcPts val="799"/>
              </a:spcBef>
              <a:buClr>
                <a:srgbClr val="cc99ff"/>
              </a:buClr>
              <a:buSzPct val="75000"/>
              <a:buFont typeface="Times New Roman"/>
              <a:buAutoNum type="arabicPeriod" startAt="2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pérdida de significación estadística en una gran proporción de los coeficientes alfa en el conjunto de las carteras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confirma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 la relevancia de las nuevas primas consideradas en este trabaj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formación y volatil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Obje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Encontrar los factores de los que depende el suministro de información voluntaria por parte de las empre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Probar la existencia de la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lación negativa entre la revelación voluntaria de información  y el riesgo idiosincrático de la empre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formación y volatil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sul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6800" indent="-368280">
              <a:spcBef>
                <a:spcPts val="79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Se encontró evidencia en el mercado argentino que tanto a mayor tamaño como a mayor rentabilidad, mayor es la información suminist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6800" indent="-368280">
              <a:spcBef>
                <a:spcPts val="79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Cuanto mayor es la cantidad de información revelada menor es el riesgo propio del act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enominación de la línea de investigació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ARROLLOS EN MODELOS FINANCIEROS Y APLICACIONES AL AMBITO REGIONAL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ffff"/>
                </a:solidFill>
                <a:latin typeface="Times New Roman"/>
              </a:rPr>
              <a:t>Integrant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43000" y="2209680"/>
          <a:ext cx="7799400" cy="3611520"/>
        </p:xfrm>
        <a:graphic>
          <a:graphicData uri="http://schemas.openxmlformats.org/drawingml/2006/table">
            <a:tbl>
              <a:tblPr/>
              <a:tblGrid>
                <a:gridCol w="3962520"/>
                <a:gridCol w="383688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do H. Alon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ernán Alonso Bafico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a María Legato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miro Sánchez Tucule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iano Valetutto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laboradores: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esor Extero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ustavo Gugliemet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an J. Jiménez More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mpromisos Específic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OMISO 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álisis crítico de modelos y eventuales adecuaciones en modelos aplicables al análisis de económico financiero de las empresas y su funcionamiento. Conclusiones respecto de hipótesis aceptadas y de aspectos controvertidos en materias instrumenta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mpromisos Específic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ROMISO I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puestas de metodologías de evaluación y calificación de empresas y proyectos en el ámbito regional. Instrumentación de aplicaciones en cooperación con otras instituciones académicas y empresaria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OMISO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plicación de técnicas paramétricas simples y multivariadas orientadas a modelos de regresión y factor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OMISO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levamiento de metodologías existentes en el medio nacional e internacional. Adecuación e incorporación al ámbito regional, según la caracterización de las organizaciones empresar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ffff"/>
                </a:solidFill>
                <a:latin typeface="Times New Roman"/>
              </a:rPr>
              <a:t>Actividad 2004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2514600"/>
          <a:ext cx="7848360" cy="9907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 información, una incumbencia reciente de la función financie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990720" y="3886200"/>
          <a:ext cx="7848360" cy="9907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mas reconocidas en el rendimiento de empresas cotizan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990720" y="5334120"/>
          <a:ext cx="7848360" cy="9903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ormación y volatil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a información, una incumbencia reciente de la función financiera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Función Financiera debe ampliar sus incumbencias tradicionales para incluir su compromiso con la información destinada a la comunidad inversora. Rol que se confunde con el de aprender, decodificar y responder los mensajes que esa misma comunidad em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imas reconocidas en el rendimiento de empresas cotizantes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Obje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objetivo de este trabajo 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fué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identificar evidencia empírica referida a la posible existencia de primas de riesgo, explicadas por diferencias en factores clave tales como tamaño, liquidez,  relación entre valores de mercado y valores libro, entre otr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7:28:09Z</dcterms:created>
  <dc:creator>PC-33</dc:creator>
  <dc:description/>
  <dc:language>en-US</dc:language>
  <cp:lastModifiedBy>Boxes de Economicas</cp:lastModifiedBy>
  <dcterms:modified xsi:type="dcterms:W3CDTF">2004-12-03T17:55:58Z</dcterms:modified>
  <cp:revision>13</cp:revision>
  <dc:subject/>
  <dc:title>Grupo Finanzas</dc:title>
</cp:coreProperties>
</file>