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072-A598-4861-8CF4-47AE6A5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F0B-43EA-4597-BD9E-3CAF728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E18-498D-4FA9-915E-6A4DA81F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6EE-63BF-4337-9BCB-25E38B57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8E2C-B182-45B6-8A5D-40E0A7C3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BBD-0221-4C77-BCE1-EFF76E5B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EC1-938D-4337-BDD5-CCBBA4A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50AB-532B-4D87-886B-20B8D38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4547-B55D-482A-AD23-0046290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543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51F-6B1A-4387-90F3-C1C6043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466F-9202-4BD1-A62B-36CF51C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774-7BE9-4B11-8A6D-541885C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61F1-73BB-477F-8EE4-CFD7E91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5F9-C024-4E97-86EA-A666E3C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A82E-AF6B-4659-9F57-4D21C6D0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5B9-00C1-4435-ACE9-5054B6E6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D13A-844A-40AF-A8E1-CA1AC88B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67A-A1DF-430E-ACB6-D7F0FAD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F0F-8050-4811-B7A8-73F7877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F26-1090-4106-9FFA-B69A8B0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543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8CB-0C12-4290-9029-7F3661B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4A7-3047-410E-8A06-C06B875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15A-BC96-4B83-8B32-0D8B386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CCC-3ECC-4E5C-B93D-2AE1926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e28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d5b09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e5d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64A-45F6-4EA7-8109-2C573383090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4114800"/>
            <a:ext cx="1113120" cy="2743200"/>
          </a:xfrm>
          <a:prstGeom prst="rect">
            <a:avLst/>
          </a:prstGeom>
          <a:solidFill>
            <a:srgbClr val="e5d3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08440" y="-399600"/>
            <a:ext cx="8454600" cy="1951560"/>
            <a:chOff x="1108440" y="-399600"/>
            <a:chExt cx="8454600" cy="1951560"/>
          </a:xfrm>
        </p:grpSpPr>
        <p:sp>
          <p:nvSpPr>
            <p:cNvPr id="60" name=""/>
            <p:cNvSpPr/>
            <p:nvPr/>
          </p:nvSpPr>
          <p:spPr>
            <a:xfrm rot="21092400">
              <a:off x="1119240" y="1049040"/>
              <a:ext cx="1681200" cy="27288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d5b09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1092400">
              <a:off x="2981520" y="75960"/>
              <a:ext cx="6543360" cy="99972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719440" y="685440"/>
              <a:ext cx="456840" cy="456480"/>
              <a:chOff x="2719440" y="685440"/>
              <a:chExt cx="456840" cy="456480"/>
            </a:xfrm>
          </p:grpSpPr>
          <p:sp>
            <p:nvSpPr>
              <p:cNvPr id="63" name=""/>
              <p:cNvSpPr/>
              <p:nvPr/>
            </p:nvSpPr>
            <p:spPr>
              <a:xfrm>
                <a:off x="2719440" y="685440"/>
                <a:ext cx="456840" cy="456480"/>
              </a:xfrm>
              <a:prstGeom prst="ellipse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48040" y="80604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91080" y="74196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91080" y="870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98000" y="91368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040920" y="89892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26440" y="100656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91080" y="98496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19600" y="69228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676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3E6-D8E1-49B6-8B49-9CE25DFCEB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SISTEMAS de GESTIÓN </a:t>
            </a:r>
            <a:r>
              <a:rPr b="1" lang="es-ES_tradnl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de </a:t>
            </a:r>
            <a:r>
              <a:rPr b="1" lang="es-E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CALIDAD</a:t>
            </a:r>
            <a:r>
              <a:rPr b="1" lang="es-ES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1500"/>
            </a:br>
            <a:r>
              <a:rPr b="1" lang="es-ES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en </a:t>
            </a:r>
            <a:r>
              <a:rPr b="1" lang="es-AR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las </a:t>
            </a:r>
            <a:r>
              <a:rPr b="1" lang="es-ES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PYMES INDUSTRIALES </a:t>
            </a:r>
            <a:br>
              <a:rPr sz="3000"/>
            </a:br>
            <a:r>
              <a:rPr b="1" lang="es-ES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de la REGIÓN</a:t>
            </a:r>
            <a:r>
              <a:rPr b="1" lang="es-ES_tradnl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1447920"/>
            <a:ext cx="6629400" cy="1218960"/>
          </a:xfrm>
          <a:prstGeom prst="rect">
            <a:avLst/>
          </a:prstGeom>
          <a:solidFill>
            <a:srgbClr val="d5b095"/>
          </a:solidFill>
          <a:ln w="9360">
            <a:solidFill>
              <a:srgbClr val="d5b095"/>
            </a:solidFill>
            <a:miter/>
          </a:ln>
          <a:effectLst>
            <a:outerShdw dist="17819" dir="2700000" blurRad="0" rotWithShape="0">
              <a:srgbClr val="7f695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00000"/>
                </a:solidFill>
                <a:latin typeface="Arial Narrow"/>
              </a:rPr>
              <a:t>PRESENTACION del</a:t>
            </a:r>
            <a:br>
              <a:rPr sz="4400"/>
            </a:br>
            <a:r>
              <a:rPr b="1" lang="es-ES_tradnl" sz="4400" spc="-1" strike="noStrike">
                <a:solidFill>
                  <a:srgbClr val="800000"/>
                </a:solidFill>
                <a:latin typeface="Arial Narrow"/>
              </a:rPr>
              <a:t>PROYECTO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3048120"/>
            <a:ext cx="72709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Unidad Académic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Facultad de Ciencias Económic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pellido y Nombre del Directo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Ing. Corres Guiller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Cargo Docente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fesor Titular Ordinario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Categoría Investigador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13712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OBJETIVO</a:t>
            </a:r>
            <a:r>
              <a:rPr b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GENERAL</a:t>
            </a:r>
            <a:br>
              <a:rPr sz="2000"/>
            </a:br>
            <a:br>
              <a:rPr sz="1200"/>
            </a:b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C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ontribu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r a mejorar la situación competitiva </a:t>
            </a:r>
            <a:br>
              <a:rPr sz="2200"/>
            </a:b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d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e las PyMEs del sector industrial 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a partir de un 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diagn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ó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stico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respecto a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la gestión 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t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otal de la calidad y 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mediante el desarrollo de 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metodologías o programas de apoyo para la instrumentación 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d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e sistemas de calidad y 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el </a:t>
            </a:r>
            <a:r>
              <a:rPr b="1" lang="es-ES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mejoramiento de procesos factibles de ser implementados en las mismas</a:t>
            </a:r>
            <a:r>
              <a:rPr b="1" lang="es-ES_tradnl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1447920"/>
            <a:ext cx="754380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OBJETIVO</a:t>
            </a:r>
            <a:r>
              <a:rPr b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S ESPEC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alu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l grado de transformación de las PyMEs industri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tect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s necesidades y exigencias respecto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l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mercados que abaste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iza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 estado de situación respecto de la gestión de la calidad, mediante un diagnóstico que permita establecer si poseen, formulan y responden a políticas, estrategias y criterios modernos de gestión de la calidad y el grado de conocimiento e implementación de metodologías y herramientas vinculadas a la mejora de los proce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gr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la identificación y/o generación de modelos, programas y  metodologías de apoyo  factibles de ser implement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185580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acterizar el estado de situación de las PyMes industriales de la región respecto a la gestión total de la c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4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ct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idades y exigencias de los mercados que abastec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044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y/o genera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s de instrumentación de sistemas, metodologías y herramientas de mejora de la gestión de los procesos y la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0" y="533520"/>
            <a:ext cx="52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PORTES ACADÉMICOS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E TRANSFERENCIA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752480" y="1066680"/>
            <a:ext cx="6248520" cy="5790960"/>
            <a:chOff x="1752480" y="1066680"/>
            <a:chExt cx="6248520" cy="5790960"/>
          </a:xfrm>
        </p:grpSpPr>
        <p:sp>
          <p:nvSpPr>
            <p:cNvPr id="123" name=""/>
            <p:cNvSpPr/>
            <p:nvPr/>
          </p:nvSpPr>
          <p:spPr>
            <a:xfrm>
              <a:off x="1752480" y="1066680"/>
              <a:ext cx="6248520" cy="5790960"/>
            </a:xfrm>
            <a:prstGeom prst="ellipse">
              <a:avLst/>
            </a:prstGeom>
            <a:solidFill>
              <a:srgbClr val="d5b095"/>
            </a:soli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257560" y="1493640"/>
              <a:ext cx="5438160" cy="4525560"/>
              <a:chOff x="2257560" y="1493640"/>
              <a:chExt cx="5438160" cy="4525560"/>
            </a:xfrm>
          </p:grpSpPr>
          <p:sp>
            <p:nvSpPr>
              <p:cNvPr id="125" name=""/>
              <p:cNvSpPr/>
              <p:nvPr/>
            </p:nvSpPr>
            <p:spPr>
              <a:xfrm>
                <a:off x="4243320" y="1493640"/>
                <a:ext cx="1898640" cy="10159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opilación información Realización de encuestas y entrevistas. Procesamiento de la  inform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257560" y="2601720"/>
                <a:ext cx="5438160" cy="3417480"/>
                <a:chOff x="2257560" y="2601720"/>
                <a:chExt cx="5438160" cy="3417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96720" y="3063600"/>
                  <a:ext cx="1899000" cy="1015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381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iagnóstico y caracterización de estado respecto de la gestión de  la  calidad  y los proces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019840" y="5003280"/>
                  <a:ext cx="1899000" cy="10159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381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dentificación y análisis de  metodologías y herramientas factibles de  implemen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43600" y="4633920"/>
                  <a:ext cx="1899000" cy="10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381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iseño de estrategias y de un programa de mejora de la gestión de operaciones y la ca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57560" y="2601720"/>
                  <a:ext cx="1899000" cy="1015920"/>
                </a:xfrm>
                <a:prstGeom prst="rect">
                  <a:avLst/>
                </a:prstGeom>
                <a:solidFill>
                  <a:srgbClr val="c0c0c0"/>
                </a:solidFill>
                <a:ln w="57240">
                  <a:solidFill>
                    <a:srgbClr val="808080"/>
                  </a:solidFill>
                  <a:miter/>
                </a:ln>
                <a:effectLst>
                  <a:outerShdw dist="107932" dir="135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YMES  INDUSTRIALES DE LA REG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rot="19485600">
                <a:off x="3379680" y="1771200"/>
                <a:ext cx="690840" cy="554040"/>
              </a:xfrm>
              <a:custGeom>
                <a:avLst/>
                <a:gdLst>
                  <a:gd name="textAreaLeft" fmla="*/ 108000 w 690840"/>
                  <a:gd name="textAreaRight" fmla="*/ 604800 w 690840"/>
                  <a:gd name="textAreaTop" fmla="*/ 138600 h 554040"/>
                  <a:gd name="textAreaBottom" fmla="*/ 415800 h 55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b4b4"/>
                  </a:gs>
                  <a:gs pos="50000">
                    <a:srgbClr val="ffffff"/>
                  </a:gs>
                  <a:gs pos="100000">
                    <a:srgbClr val="b4b4b4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153600">
                <a:off x="6290280" y="2250000"/>
                <a:ext cx="739800" cy="519120"/>
              </a:xfrm>
              <a:custGeom>
                <a:avLst/>
                <a:gdLst>
                  <a:gd name="textAreaLeft" fmla="*/ 115560 w 739800"/>
                  <a:gd name="textAreaRight" fmla="*/ 647640 w 739800"/>
                  <a:gd name="textAreaTop" fmla="*/ 129600 h 519120"/>
                  <a:gd name="textAreaBottom" fmla="*/ 389520 h 51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7655400">
                <a:off x="6290280" y="4281840"/>
                <a:ext cx="739800" cy="519120"/>
              </a:xfrm>
              <a:custGeom>
                <a:avLst/>
                <a:gdLst>
                  <a:gd name="textAreaLeft" fmla="*/ 115560 w 739800"/>
                  <a:gd name="textAreaRight" fmla="*/ 647640 w 739800"/>
                  <a:gd name="textAreaTop" fmla="*/ 129600 h 519120"/>
                  <a:gd name="textAreaBottom" fmla="*/ 389520 h 51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99200">
                <a:off x="4243320" y="5095440"/>
                <a:ext cx="690480" cy="554040"/>
              </a:xfrm>
              <a:custGeom>
                <a:avLst/>
                <a:gdLst>
                  <a:gd name="textAreaLeft" fmla="*/ 107640 w 690480"/>
                  <a:gd name="textAreaRight" fmla="*/ 604440 w 690480"/>
                  <a:gd name="textAreaTop" fmla="*/ 138600 h 554040"/>
                  <a:gd name="textAreaBottom" fmla="*/ 415800 h 55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11400">
                <a:off x="2664360" y="3819600"/>
                <a:ext cx="739800" cy="519120"/>
              </a:xfrm>
              <a:custGeom>
                <a:avLst/>
                <a:gdLst>
                  <a:gd name="textAreaLeft" fmla="*/ 115560 w 739800"/>
                  <a:gd name="textAreaRight" fmla="*/ 647640 w 739800"/>
                  <a:gd name="textAreaTop" fmla="*/ 129600 h 519120"/>
                  <a:gd name="textAreaBottom" fmla="*/ 389520 h 51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969696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1295280" y="1066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SQUEMA 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219320" y="2359080"/>
          <a:ext cx="7696080" cy="35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59080"/>
                    <a:ext cx="7696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0666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Características principales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19320" y="2341440"/>
          <a:ext cx="7848360" cy="33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41440"/>
                    <a:ext cx="78483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0666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escripción de las empresas objeto de 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666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Marco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4800" y="2362320"/>
            <a:ext cx="55393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ormas ISO 9001- 4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ponsabilidad de l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los Recur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liz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álisis, Medición y Mej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20:36:25Z</dcterms:created>
  <dc:creator>econ</dc:creator>
  <dc:description/>
  <dc:language>en-US</dc:language>
  <cp:lastModifiedBy>econ</cp:lastModifiedBy>
  <dcterms:modified xsi:type="dcterms:W3CDTF">2004-12-15T19:20:07Z</dcterms:modified>
  <cp:revision>41</cp:revision>
  <dc:subject/>
  <dc:title>SISTEMAS DE GESTIÓN  DE LA CALIDAD EN  LAS PYMES INDUSTRIALES  DE LA REGIÓN (TOAR)</dc:title>
</cp:coreProperties>
</file>