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C05-FBD0-4459-B700-F6EBE9CD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72B-E942-432A-9F5B-3A97A213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757-AD62-40F5-BC3D-7B3797CE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698-BC0C-41BD-808F-BD7EE1AF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177-3471-4F77-AF3F-0CDE7EB4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6B6-D0C9-4742-93C0-4EE19CC5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73E-1F16-44A2-AE04-381BBAE8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330-FD19-4733-B153-3CD77B0C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30D-8B37-400A-ADDC-7130B3F9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1A8-466A-4F82-A37D-C823E80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991-A5C9-4C95-A285-AE824DE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E31-5B0A-4680-B4EC-D5DEFE60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4c4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E5FD-871C-405C-9860-B9F2D740B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4c4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838080"/>
            <a:ext cx="8077320" cy="190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914400"/>
            <a:ext cx="80773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¨ESTUDIO INTEGRAL DE LA VITIVINICULTURA ARGENTINA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imera pa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ÁLISIS DEL IMPACTO ECONÓMICO SO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200400"/>
            <a:ext cx="80773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ganizaciones intervin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ONDO VITIVINÍCOLA DE MEND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STITUTO NACIONAL DE VITIVINI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CULTAD DE CIENCIAS ECONÓMICAS - UNCu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ndoza - 2004/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4c4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838080"/>
            <a:ext cx="2362320" cy="1295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838080"/>
            <a:ext cx="2362320" cy="1295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066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106668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362320"/>
            <a:ext cx="2514600" cy="990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INICU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352680"/>
            <a:ext cx="609840" cy="762120"/>
          </a:xfrm>
          <a:prstGeom prst="downArrow">
            <a:avLst>
              <a:gd name="adj1" fmla="val 50000"/>
              <a:gd name="adj2" fmla="val 31243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91120"/>
            <a:ext cx="2590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ESTRUCTURA DE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ESTRUCTURA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VALOR AGRE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2362320"/>
            <a:ext cx="2514600" cy="990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MANO DE O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114800"/>
            <a:ext cx="4800600" cy="1828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ITICU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35268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895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447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380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2514600"/>
            <a:ext cx="2361960" cy="1752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971800"/>
            <a:ext cx="1904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ÚM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4572000"/>
            <a:ext cx="2361960" cy="1752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5029200"/>
            <a:ext cx="1676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324480"/>
            <a:ext cx="533160" cy="533520"/>
          </a:xfrm>
          <a:prstGeom prst="downArrow">
            <a:avLst>
              <a:gd name="adj1" fmla="val 50000"/>
              <a:gd name="adj2" fmla="val 2501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4c4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8120" y="457200"/>
            <a:ext cx="2971800" cy="617220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Times New Roman"/>
              </a:rPr>
              <a:t>CÚMULO COMPETITIVO DEL SECTOR VITIVINÍC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838080"/>
            <a:ext cx="24386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958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04920"/>
            <a:ext cx="2819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VIVEROS, AGROQUÍMICOS, RIEGO, INSUMOS EN GRAL, PROTECCIÓN ANTIGRANIZO, PERSONAL, ASESORAMIENTO, TECNOLOGÍA, TRANSPORTE, PROVEEDORE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30492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1905120"/>
            <a:ext cx="24386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1981080"/>
            <a:ext cx="2438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ITÍ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3352680"/>
            <a:ext cx="24386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2514600"/>
            <a:ext cx="259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NVASES, ETIQUETAS, CÁPSULAS, CORCHOS, EMBALAJES, QUÍMICOS, VASIJAS, MAQUINARIAS, EQUIP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2133720"/>
            <a:ext cx="152640" cy="198108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350532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INÍ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905120"/>
            <a:ext cx="2438280" cy="2971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057400"/>
            <a:ext cx="2438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URISMO, HOTELERÍA, TRANSPORTE, GASTRONOMÍA, CULTURA, EDUCACUÓN, INVESTIGACIÓN, ONG, SECTOR PÚBLICO, CÁMARAS EMPRESARIAS, GREMIOS, PUBLICACIONES, EVENTOS RELACION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ECTORES COMPLE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572000"/>
            <a:ext cx="312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UPERMERCADOS, DISTRIBUIDOR MAYORISTA, LOGÍSTICA, TRANSPORTE, RESTAURANTES, MINORISTAS TRADI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7913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ERCEPCIÓN, MOTIVACIÓN, CONSUMO, POSICIONAMIENTO DE MARCA, SEG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800600"/>
            <a:ext cx="24386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952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TRIBU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5867280"/>
            <a:ext cx="24386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60199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41972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8672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371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8195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42670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53341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791320" y="1143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647960" y="3124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791320" y="5105520"/>
            <a:ext cx="30456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91320" y="6248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362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4c4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67080" y="5486400"/>
            <a:ext cx="3962520" cy="914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4191120"/>
            <a:ext cx="274320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2514600"/>
            <a:ext cx="3048120" cy="1371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1371600"/>
            <a:ext cx="312408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4191120"/>
            <a:ext cx="1676520" cy="6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819520"/>
            <a:ext cx="1676520" cy="6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1447920"/>
            <a:ext cx="1752480" cy="76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04920"/>
            <a:ext cx="746748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ÁLISIS Y DESCRIPCIÓN DE LA SITUACIÓN COMPETITIVA DE LA EMPRESA VITIVINÍ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1952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imes New Roman"/>
              </a:rPr>
              <a:t>PRIMERA PAR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imes New Roman"/>
              </a:rPr>
              <a:t>SITUACIÓN COMPET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410080"/>
            <a:ext cx="4495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imes New Roman"/>
              </a:rPr>
              <a:t>SEGUNDA PAR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imes New Roman"/>
              </a:rPr>
              <a:t>INDICADORES DE COMPETI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1600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OMPETENCIA EMPRES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8353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APACIDAD EMPRES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428292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ABILIDAD EMPRES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3431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VISIÓN EMPRES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ULTURA CORPO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STRUCTURA ORGANIZ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2548080"/>
            <a:ext cx="3886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NO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EJ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DAP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253040"/>
            <a:ext cx="350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STRUCTURA DE 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OSICIÓN EN 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876920"/>
            <a:ext cx="43434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CV  =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   -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657600"/>
            <a:ext cx="457200" cy="1600200"/>
          </a:xfrm>
          <a:prstGeom prst="downArrow">
            <a:avLst>
              <a:gd name="adj1" fmla="val 50000"/>
              <a:gd name="adj2" fmla="val 87500"/>
            </a:avLst>
          </a:prstGeom>
          <a:solidFill>
            <a:srgbClr val="cc66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1219320"/>
            <a:ext cx="457200" cy="3886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4c4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00400" y="1676520"/>
            <a:ext cx="5486400" cy="35049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666880"/>
            <a:ext cx="2514600" cy="1295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8600"/>
            <a:ext cx="86104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572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CÚMULO COMPETITIVO A TRAVÉS DE LAS REDES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819520"/>
            <a:ext cx="2590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 OB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828800"/>
            <a:ext cx="53337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AMAÑO DEL CÚMULO 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ALIDAD DE LOS ACTORES COMPET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ADO DE DENSIDAD DEL CÚM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ADO DE RECIPROCIDAD ENTRE LOS ACTORES COMPET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MILITUDES ENTRE LOS ACTORES COMPET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4:15:01Z</dcterms:created>
  <dc:creator>sm/hocana</dc:creator>
  <dc:description/>
  <dc:language>en-US</dc:language>
  <cp:lastModifiedBy>sm/hocana</cp:lastModifiedBy>
  <dcterms:modified xsi:type="dcterms:W3CDTF">2004-12-05T16:02:16Z</dcterms:modified>
  <cp:revision>7</cp:revision>
  <dc:subject/>
  <dc:title>Sin título de diapositiva</dc:title>
</cp:coreProperties>
</file>