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0063" cy="9629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B4F0-5B90-42B4-8AD9-C716AA6B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86EB-645C-4EFE-88BC-A9061594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A32-8937-4217-B9FA-BBB92EAE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C3D-386D-4F6A-A333-AEB36CD9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B9B9-4187-41F1-8B59-96027B3D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485E-0FC7-4F18-B4B2-F3B4AE54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2C35-3899-4881-A1F1-9B6F8F54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9A16-18A1-4F8D-8084-F07DFEF3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CED6-384E-451D-B8DA-191BF515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5370-88C6-4F8D-947C-8B10706B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F9D7-02E5-47C4-B12E-59A479FC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57C2-AEEC-437B-9C81-69988B68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8808-44E9-45A2-80F4-8AECD219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F20A-7D32-4A12-9F3A-6AC358DF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F6C3-F30D-47E2-8123-12D747AB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C361-60A9-45EA-8325-7FA4764D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1F68-089D-4182-9500-EC33D5D8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1013-2EC3-43E1-9E06-FE199D02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983D-2584-4868-93FC-8183DE0D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1E96-C039-4B1D-8181-14A2B4B6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FB8-D4F4-4C16-A739-959E4D74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E14-A9ED-415D-AB16-E34B5F71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AFE-E488-4A4E-A57C-23424E1A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D699-F82F-47AC-B242-877499E2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2FF1-E4E1-4274-9996-AB3CA5F9AA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B155-9C5A-4C0E-8C7B-15E872A250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2286000"/>
            <a:ext cx="7391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Bookman Old Style"/>
              </a:rPr>
              <a:t>Selección de variables en un problema de alta dimensionali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890960"/>
            <a:ext cx="65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MBA Ana María Leg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Ing. María del Carmen Rom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7346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057400"/>
            <a:ext cx="8229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La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estadística multivariada</a:t>
            </a: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 es usada para describir y analizar observaciones multidimensi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Provee herramientas pa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Compa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Agru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Clasif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4400" y="2209680"/>
            <a:ext cx="72388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La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clasificación</a:t>
            </a: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 es una técnica de agrupamiento que se basa en las similitudes o “distancias” entre las observaciones o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Puede s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Supervis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No supervis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1981080"/>
            <a:ext cx="784872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Análisis de características de clientes para poder predecir su comportamiento (morosos, consumidores de un determinado artículo, etc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Análisis de características de empresas para analizar sus posibilidades de éxito o no éxito en un determinado período de tiemp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1905120"/>
            <a:ext cx="79246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Crecimiento de la inform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Mayor cantidad de individu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Mayor cantidad de variables observadas para cada individuo (alta dimensionalida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5105520"/>
            <a:ext cx="8380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Necesidad de nuevos métodos de clasificación y aná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2133720"/>
            <a:ext cx="815328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La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selección de variables</a:t>
            </a: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 intenta seleccionar el subconjunto mínimo de características de manera que la precisión de la clasificación no decrezca significativa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Fácil interpretación del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Menor tiempo de proces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133720"/>
            <a:ext cx="807732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0000"/>
                </a:solidFill>
                <a:latin typeface="Bookman Old Style"/>
              </a:rPr>
              <a:t>¿Cómo seleccionar aquellas variables relevantes en la discriminación de los grup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Los distintos métodos de selección de variables se basan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Generación del subconjunto d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Función de 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19051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2133720"/>
            <a:ext cx="8153640" cy="40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Principale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Métodos Filtro: No requieren el uso de un clasificador para seleccionar el mejor subconjunto de atributos y usan características generales de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Métodos </a:t>
            </a:r>
            <a:r>
              <a:rPr b="0" i="1" lang="es-ES_tradnl" sz="2800" spc="-1" strike="noStrike">
                <a:solidFill>
                  <a:srgbClr val="000000"/>
                </a:solidFill>
                <a:latin typeface="Bookman Old Style"/>
              </a:rPr>
              <a:t>Wrapper</a:t>
            </a: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: Usan la tasa de error de mala clasificación de un clasificador como una función de evalu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1905120"/>
            <a:ext cx="838224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Explorar aproximaciones  al problema de selección de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Aplicar estas aproximaciones a problemas particu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Trabajar con variables cualitativas y cuantita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Considerar variables redundantes y variables irrelev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2T14:47:38Z</dcterms:created>
  <dc:creator>q</dc:creator>
  <dc:description/>
  <dc:language>en-US</dc:language>
  <cp:lastModifiedBy>q</cp:lastModifiedBy>
  <dcterms:modified xsi:type="dcterms:W3CDTF">2004-12-06T00:08:28Z</dcterms:modified>
  <cp:revision>207</cp:revision>
  <dc:subject/>
  <dc:title>Análisis  discriminante </dc:title>
</cp:coreProperties>
</file>