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D8A-66AA-42BB-80C0-23841EDD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101-F95E-4236-92A7-CD9DE72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F9E-5271-40CA-B405-75326124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918-3C6C-4A3F-9B99-AF2DA5D8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A20-5B31-41E1-A567-B2102BB5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E70-A854-415C-A2CE-27753DEE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BB58-4149-4AAF-B3C3-F3429D25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BB6A-E9C7-4394-A98A-6EE772B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01EF-3847-46A4-995C-61C6209D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BD21-9735-467D-9D46-EF3589BD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FEC9-4DF2-4083-B989-F585B05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388-CAD8-4C55-8E0E-1A08F13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280-297B-4009-B11A-9F87830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AAA2-A350-4D94-99F6-B40374A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086-C8FF-4089-B9E4-C56879F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CCA-86DB-49C3-BEDA-F9D589E8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B96-09F5-4628-9019-4A745CA9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382-A812-49A9-86B2-418A8D8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A60-32AF-4B2B-B0D0-DFF8B6AF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478-4B5D-4042-84E4-705B8EDD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ABE-9D7B-4356-9377-6129AC25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5BC-6496-426A-8945-42190E1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C81-B13E-4BD3-9239-D41BAB4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C4F-EFB0-4E49-ADD2-858679F2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0" cy="6854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2F3-BE21-4673-A3FB-501CA3BA8C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1D9-FECC-4512-9DAF-6C2735A775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ACUERDOS DE COOPERACION y DESARROLLO LOC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Las condiciones d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Integran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duardo Quiroga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riano Valetutto (Investigado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do Hernán Alonso (Director)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stitu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estría en Dirección de Empresas (UNLP) – CEAE (UNICE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isión de Investigaciones Científicas de la Pcia. de Buenos Air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C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ción de la situación actual de las PyMEs en 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80"/>
                </a:solidFill>
                <a:latin typeface="Times New Roman"/>
              </a:rPr>
              <a:t>-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factores: flexibilidad tecnológica y productiva, innovación, acceso a fuentes de financiamiento. Evaluación del entor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bilidad de la aplicación del modelo de c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sters productiv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o base para lograr, desarrollo sustentable y competitividad internacion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Etap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tapa 1: Análisis situac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tapa 2: Estudio de cas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tapa 3: Desarrollo del modelo 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clusters productiv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tapa 4: Aplicabilidad del modelo 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clusters productiv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tap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: Identificación de alternativas posib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Conclusiones 1ª Etap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ntorno en el que actúan las empresas condiciona su comportamiento y sus posibilidades de crecimiento y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rgentina las condiciones del entorno evidencian una situación opuesta a la requerida para un desarrollo industrial: imposibilidad de lograr un crecimiento económico sostenible y equilibrado, inestabilidad de las políticas, marcados problemas en la distribución de la riqueza, la población y la infraestructura entre las distintas regiones, organización de la investigación científica que no consulta prioridades del medio, crisis energética y administración pública de apreciación pública negativa, entre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Continu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e modo, la competitividad se basa en una concepción de potencialidades propias de las empresas y de las características particulares de las distintas regiones o ámbitos en las que actú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de las estrategias posibles para enfrentar los problemas de la falta de competitividad: los mecanismos de cooperación empresaria propios del modelo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uster Productiv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uyos efectos se centran en el desarrollo sustentable del sector PyME a partir de un mejoramiento de los niveles de competitividad de las empres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7:28:09Z</dcterms:created>
  <dc:creator>PC-33</dc:creator>
  <dc:description/>
  <dc:language>en-US</dc:language>
  <cp:lastModifiedBy>Boxes de Economicas</cp:lastModifiedBy>
  <dcterms:modified xsi:type="dcterms:W3CDTF">2004-12-03T17:54:44Z</dcterms:modified>
  <cp:revision>13</cp:revision>
  <dc:subject/>
  <dc:title>Grupo Finanzas</dc:title>
</cp:coreProperties>
</file>