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CC1-2C7E-447E-8205-BC65ACE6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D42-885A-4EE2-8ED0-617FBE76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DFD-CE43-4FAC-B9B6-3A51E237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C01-2021-4084-A1CB-5E5FF145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89E5-11EF-4C54-BB74-6F50108D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85BC-4E99-426D-898F-ED1FF7E5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D485-A190-46C3-AAD5-EC511052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F764-30C3-495F-9354-FC359794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D164-224C-4FAA-8D13-874A09B0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3B88-A80B-4940-97D4-07A5620F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D50D-6941-4FA9-8558-5D9E33E2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064-3D4C-4EA9-A522-B25C0609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636C-8184-4853-8625-19563AD7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8E4E-B048-4DB2-8E9E-A4582FBD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67E4-9297-48D5-8F20-5FF903F6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610B-2B7E-494D-8990-CEB144FE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1FA4-D776-4F34-A9B2-E3375D4A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E5B-4BA8-47FA-B778-10AAEB04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16D-B6F0-4655-BE2B-78FF2F27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E42-8CCC-4447-A6CB-CBD679F0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01A1-8577-4BE5-B0D2-88A158C6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1CF-38D5-408E-ADED-976326C6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0C4-AF08-41D8-AE54-7EC8478A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45A-444F-4049-AAF8-F9602E41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DF56-7AD2-4A3B-9515-126983DCE4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63FD-6F00-47F1-B372-A67F14A455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L</a:t>
            </a:r>
            <a:r>
              <a:rPr b="1" lang="pt-BR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a información contable medioambiental. Una ventaja competitiva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Facultad de Ciencias Económicas - UNCPB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5867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Diciembre,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84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Este estudio se concibe para ser llevado a cabo en dos etapa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84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846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  <a:ea typeface="Arial"/>
              </a:rPr>
              <a:t>  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la primer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  <a:ea typeface="Arial"/>
              </a:rPr>
              <a:t> etapa, de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 de naturaleza </a:t>
            </a:r>
            <a:r>
              <a:rPr b="1" i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exploratoria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 proporcionará la información marco,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reuniéndose información provista por diferentes fuentes de datos secundarios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846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en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la segunda etapa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  <a:ea typeface="Arial"/>
              </a:rPr>
              <a:t>,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se realizará un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i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estudio de casos 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de tipo</a:t>
            </a:r>
            <a:r>
              <a:rPr b="1" i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 transvers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al cualitativo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con datos primarios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  <a:ea typeface="Arial"/>
              </a:rPr>
              <a:t>, 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tendiente a profundizar el conocimiento en aspectos específicos de la problemática de la información contable medioambiental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57720" y="276480"/>
            <a:ext cx="782856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ES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L</a:t>
            </a: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a información contable medioambiental. </a:t>
            </a:r>
            <a:br>
              <a:rPr sz="1900"/>
            </a:b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Una ventaja competitiva”</a:t>
            </a:r>
            <a:endParaRPr b="1" lang="en-US" sz="1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24000" y="1371600"/>
            <a:ext cx="27288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etodolog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7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57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Director: Dr. Aldo S. Sansinan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57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  <a:ea typeface="Arial"/>
              </a:rPr>
              <a:t>Investigadores Línea 2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  <a:ea typeface="Arial"/>
              </a:rPr>
              <a:t>- F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  <a:ea typeface="Arial"/>
              </a:rPr>
              <a:t>C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  <a:ea typeface="Arial"/>
              </a:rPr>
              <a:t>E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  <a:ea typeface="Arial"/>
              </a:rPr>
              <a:t>CONÓMICAS</a:t>
            </a:r>
            <a:r>
              <a:rPr b="0" lang="es-ES" sz="3200" spc="-1" strike="noStrike">
                <a:solidFill>
                  <a:srgbClr val="003366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847880" indent="-228600" algn="just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40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0" lang="pt-BR" sz="2600" spc="-1" strike="noStrike">
                <a:solidFill>
                  <a:srgbClr val="003366"/>
                </a:solidFill>
                <a:latin typeface="Arial"/>
                <a:ea typeface="Arial"/>
              </a:rPr>
              <a:t>Cra. N.Silvina Zubillag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2" marL="1847880" indent="-228600" algn="just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40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0" lang="pt-BR" sz="2600" spc="-1" strike="noStrike">
                <a:solidFill>
                  <a:srgbClr val="003366"/>
                </a:solidFill>
                <a:latin typeface="Arial"/>
                <a:ea typeface="Arial"/>
              </a:rPr>
              <a:t>Mg.  Marta Erramousp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757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  <a:ea typeface="Arial"/>
              </a:rPr>
              <a:t>Investigadores Línea 1- F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  <a:ea typeface="Arial"/>
              </a:rPr>
              <a:t>C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  <a:ea typeface="Arial"/>
              </a:rPr>
              <a:t>V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  <a:ea typeface="Arial"/>
              </a:rPr>
              <a:t>ETERINARIAS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847880" indent="-228600" algn="just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4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3366"/>
                </a:solidFill>
                <a:latin typeface="Times New Roman"/>
                <a:ea typeface="Arial"/>
              </a:rPr>
              <a:t>  </a:t>
            </a:r>
            <a:r>
              <a:rPr b="0" lang="pt-BR" sz="2600" spc="-1" strike="noStrike">
                <a:solidFill>
                  <a:srgbClr val="003366"/>
                </a:solidFill>
                <a:latin typeface="Arial"/>
                <a:ea typeface="Arial"/>
              </a:rPr>
              <a:t>Dra. Silvia Ceron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2" marL="1847880" indent="-228600" algn="just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4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 </a:t>
            </a:r>
            <a:r>
              <a:rPr b="0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Lic. María Cecilia Garc</a:t>
            </a:r>
            <a:r>
              <a:rPr b="0" lang="pt-BR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í</a:t>
            </a:r>
            <a:r>
              <a:rPr b="0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a</a:t>
            </a:r>
            <a:r>
              <a:rPr b="0" lang="es-ES" sz="2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28600"/>
            <a:ext cx="792504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ES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L</a:t>
            </a: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a información contable medioambiental. </a:t>
            </a:r>
            <a:br>
              <a:rPr sz="1900"/>
            </a:b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Una ventaja competitiva”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24000" y="1371600"/>
            <a:ext cx="317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</a:rPr>
              <a:t>Equipo de trabaj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e trabajo corresponde a la Línea 2 del Proyecto de 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multidisciplinario en el que intervienen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acultad de Ciencias Veterinarias y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la Facultad de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Ciencias Económicas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titulad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s-ES" sz="2800" spc="-1" strike="noStrike">
                <a:solidFill>
                  <a:srgbClr val="003366"/>
                </a:solidFill>
                <a:latin typeface="Arial"/>
              </a:rPr>
              <a:t>Contaminación ambienta</a:t>
            </a:r>
            <a:r>
              <a:rPr b="1" i="1" lang="pt-BR" sz="28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i="1" lang="es-ES" sz="2800" spc="-1" strike="noStrike">
                <a:solidFill>
                  <a:srgbClr val="003366"/>
                </a:solidFill>
                <a:latin typeface="Arial"/>
              </a:rPr>
              <a:t>: adecuación y propuestas de tecnologías descontaminantes. Estudios de contabilidad ambiental</a:t>
            </a:r>
            <a:r>
              <a:rPr b="1" i="1" lang="pt-BR" sz="2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i="1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SECAT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03/H17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ódigos 0204/3999: Contabilidad de la responsabilidad soc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57720" y="276480"/>
            <a:ext cx="782856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ES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L</a:t>
            </a: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a información contable medioambiental. </a:t>
            </a:r>
            <a:br>
              <a:rPr sz="1900"/>
            </a:b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Una ventaja competitiva”</a:t>
            </a:r>
            <a:endParaRPr b="1" lang="en-US" sz="19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90440" indent="0">
              <a:spcBef>
                <a:spcPts val="700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90440" indent="0" algn="ctr">
              <a:spcBef>
                <a:spcPts val="700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fectuar propuestas para el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mejoramiento de la gestión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 de organizaciones industriales en la ciudad de Tandil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mediante la información contable medioambiental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 de las empre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90440" indent="0" algn="ctr">
              <a:spcBef>
                <a:spcPts val="70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57720" y="276480"/>
            <a:ext cx="782856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ES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L</a:t>
            </a: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a información contable medioambiental. </a:t>
            </a:r>
            <a:br>
              <a:rPr sz="1900"/>
            </a:b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Una ventaja competitiva”</a:t>
            </a:r>
            <a:endParaRPr b="1" lang="en-US" sz="1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22200" y="1371600"/>
            <a:ext cx="3026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Objetivo Gene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57720" y="276480"/>
            <a:ext cx="782856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ES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L</a:t>
            </a: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a información contable medioambiental. </a:t>
            </a:r>
            <a:br>
              <a:rPr sz="1900"/>
            </a:b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Una ventaja competitiva”</a:t>
            </a:r>
            <a:endParaRPr b="1" lang="en-US" sz="1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720" algn="just">
              <a:spcBef>
                <a:spcPts val="21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  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Realizar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un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relevamiento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de información contable medioambiental a fin de cuantificar y describir la información provi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45720" algn="just">
              <a:spcBef>
                <a:spcPts val="21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Realizar un estudio sistemático de la normativa actual de presentación obligatoria y voluntaria referida a los aspectos medioambientales aplicables por empresas industrial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3280" y="1371600"/>
            <a:ext cx="383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57720" y="276480"/>
            <a:ext cx="782856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ES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L</a:t>
            </a: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a información contable medioambiental. </a:t>
            </a:r>
            <a:br>
              <a:rPr sz="1900"/>
            </a:b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Una ventaja competitiva”</a:t>
            </a:r>
            <a:endParaRPr b="1" lang="en-US" sz="1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45720" algn="just">
              <a:lnSpc>
                <a:spcPct val="100000"/>
              </a:lnSpc>
              <a:spcBef>
                <a:spcPts val="14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ar las necesidades, exigencias y utilidad para los diferentes grupos de usuarios de la información contable medioambiental correspondiente a empresas industrial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23280" y="1371600"/>
            <a:ext cx="383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720" algn="just">
              <a:lnSpc>
                <a:spcPct val="90000"/>
              </a:lnSpc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  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Efectuar un análisis empírico de la información medioambiental presentada por las empresas industriales por medio de un estudio de casos, que permita ademá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60480" indent="-380880" algn="just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Identificar las políticas aplicadas en relación con la gestión ambiental empresarial (Ley 25612 de protección ambiental sobre gestión integral de residuos de origen industrial e implementación de Sistemas de Gestión Ambiental según estándares de la Norma Internacional ISO 1400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57720" y="276480"/>
            <a:ext cx="782856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ES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L</a:t>
            </a: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a información contable medioambiental. </a:t>
            </a:r>
            <a:br>
              <a:rPr sz="1900"/>
            </a:b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Una ventaja competitiva”</a:t>
            </a:r>
            <a:endParaRPr b="1" lang="en-US" sz="1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23280" y="1371600"/>
            <a:ext cx="383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6800" indent="-457200" algn="just">
              <a:spcBef>
                <a:spcPts val="1500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Identificar tipos de indicadores de Gestión Ambiental existentes o definir a la luz de estándares internacionales los principales elementos que permitan la construcción de indicadores de acuerdo con la problemát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45720" algn="just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Generar propuestas de instrumentos de información contable medioambiental para las empresas que puedan convertirse en una fuente de ventaja competitiva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57720" y="276480"/>
            <a:ext cx="782856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ES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L</a:t>
            </a: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a información contable medioambiental. </a:t>
            </a:r>
            <a:br>
              <a:rPr sz="1900"/>
            </a:b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Una ventaja competitiva”</a:t>
            </a:r>
            <a:endParaRPr b="1" lang="en-US" sz="1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280" y="1371600"/>
            <a:ext cx="383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4572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Generar propuestas de instrumentos de información contable medioambiental para las empresas que puedan convertirse en una fuente de ventaja competitiva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57720" y="276480"/>
            <a:ext cx="782856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ES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L</a:t>
            </a: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a información contable medioambiental. </a:t>
            </a:r>
            <a:br>
              <a:rPr sz="1900"/>
            </a:b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Una ventaja competitiva”</a:t>
            </a:r>
            <a:endParaRPr b="1" lang="en-US" sz="1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23280" y="1371600"/>
            <a:ext cx="383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El universo de estudio se constituye por “todas las empresas del sector industrial de la ciudad de Tandil, institucionalizadas en el momento del relevamiento - año 2004 ”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28600"/>
            <a:ext cx="7925040" cy="7621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ES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L</a:t>
            </a: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a información contable medioambiental. </a:t>
            </a:r>
            <a:br>
              <a:rPr sz="1900"/>
            </a:br>
            <a:r>
              <a:rPr b="1" lang="pt-BR" sz="1900" spc="-1" strike="noStrike">
                <a:solidFill>
                  <a:srgbClr val="006666"/>
                </a:solidFill>
                <a:latin typeface="Arial"/>
                <a:ea typeface="Times New Roman"/>
              </a:rPr>
              <a:t>Una ventaja competitiva”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4360" y="1371600"/>
            <a:ext cx="3577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Universo de estu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4:23:06Z</dcterms:created>
  <dc:creator>MBA Marta Erramouspe</dc:creator>
  <dc:description/>
  <dc:language>en-US</dc:language>
  <cp:lastModifiedBy>MBA.Marta Erramouspe- Ciencias Económicas</cp:lastModifiedBy>
  <dcterms:modified xsi:type="dcterms:W3CDTF">2004-12-15T16:18:29Z</dcterms:modified>
  <cp:revision>39</cp:revision>
  <dc:subject/>
  <dc:title>La información contable medioambiental. Una ventaja competitiva</dc:title>
</cp:coreProperties>
</file>