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219320"/>
            <a:ext cx="830592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0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Arial"/>
              </a:rPr>
              <a:t>U.N.C.P.B.A.   </a:t>
            </a:r>
            <a:r>
              <a:rPr b="1" i="1" lang="es-ES" sz="2800" spc="-1" strike="noStrike">
                <a:solidFill>
                  <a:srgbClr val="ffffcc"/>
                </a:solidFill>
                <a:latin typeface="Arial"/>
              </a:rPr>
              <a:t>Tandil</a:t>
            </a:r>
            <a:r>
              <a:rPr b="1" i="1" lang="es-ES_tradnl" sz="2800" spc="-1" strike="noStrike">
                <a:solidFill>
                  <a:srgbClr val="ffffcc"/>
                </a:solidFill>
                <a:latin typeface="Arial"/>
              </a:rPr>
              <a:t> -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27696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ccffff"/>
                </a:solidFill>
                <a:latin typeface="Arial"/>
              </a:rPr>
              <a:t>Encuentro Administración, Diciembre de 2004 - Tand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533520" y="152280"/>
          <a:ext cx="1082520" cy="92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280"/>
                    <a:ext cx="10825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Dannunzio@econ.unicen.edu.ar" TargetMode="External"/><Relationship Id="rId2" Type="http://schemas.openxmlformats.org/officeDocument/2006/relationships/hyperlink" Target="mailto:Dannunzio@econ.unicen.edu.ar" TargetMode="External"/><Relationship Id="rId3" Type="http://schemas.openxmlformats.org/officeDocument/2006/relationships/hyperlink" Target="mailto:Dannunzio@econ.unicen.edu.ar" TargetMode="External"/><Relationship Id="rId4" Type="http://schemas.openxmlformats.org/officeDocument/2006/relationships/hyperlink" Target="mailto:Dannunzio@econ.unicen.edu.ar" TargetMode="External"/><Relationship Id="rId5" Type="http://schemas.openxmlformats.org/officeDocument/2006/relationships/hyperlink" Target="mailto:Dannunzio@econ.unicen.edu.ar" TargetMode="External"/><Relationship Id="rId6" Type="http://schemas.openxmlformats.org/officeDocument/2006/relationships/hyperlink" Target="mailto:Dannunzio@econ.unicen.edu.ar" TargetMode="External"/><Relationship Id="rId7" Type="http://schemas.openxmlformats.org/officeDocument/2006/relationships/hyperlink" Target="mailto:Dannunzio@econ.unicen.edu.ar" TargetMode="External"/><Relationship Id="rId8" Type="http://schemas.openxmlformats.org/officeDocument/2006/relationships/hyperlink" Target="mailto:Dannunzio@econ.unicen.edu.ar" TargetMode="External"/><Relationship Id="rId9" Type="http://schemas.openxmlformats.org/officeDocument/2006/relationships/hyperlink" Target="mailto:Dannunzio@econ.unicen.edu.ar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600200"/>
            <a:ext cx="8001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66ff66"/>
                </a:solidFill>
                <a:uFillTx/>
                <a:latin typeface="Verdana"/>
                <a:ea typeface="Arial"/>
              </a:rPr>
              <a:t>DENOMINACIÓN DEL PROYECTO</a:t>
            </a:r>
            <a:r>
              <a:rPr b="1" i="1" lang="es-ES" sz="2800" spc="-1" strike="noStrike">
                <a:solidFill>
                  <a:srgbClr val="66ff66"/>
                </a:solidFill>
                <a:latin typeface="Verdana"/>
                <a:ea typeface="Arial"/>
              </a:rPr>
              <a:t>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ff66"/>
                </a:solidFill>
                <a:latin typeface="Verdana"/>
                <a:ea typeface="Arial"/>
              </a:rPr>
              <a:t>Aspectos Generales y Factores relevantes en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ff66"/>
                </a:solidFill>
                <a:latin typeface="Verdana"/>
                <a:ea typeface="Arial"/>
              </a:rPr>
              <a:t>Creación y Desarrollo de Nuevas Empresas en </a:t>
            </a:r>
            <a:r>
              <a:rPr b="1" i="1" lang="es-ES_tradnl" sz="2800" spc="-1" strike="noStrike">
                <a:solidFill>
                  <a:srgbClr val="66ff66"/>
                </a:solidFill>
                <a:latin typeface="Verdana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66ff66"/>
                </a:solidFill>
                <a:latin typeface="Verdana"/>
                <a:ea typeface="Arial"/>
              </a:rPr>
              <a:t>Entorno Local</a:t>
            </a:r>
            <a:r>
              <a:rPr b="1" i="1" lang="es-ES_tradnl" sz="2800" spc="-1" strike="noStrike">
                <a:solidFill>
                  <a:srgbClr val="66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14400"/>
            <a:ext cx="82296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ccff"/>
                </a:solidFill>
                <a:latin typeface="Arial"/>
                <a:ea typeface="Times New Roman"/>
              </a:rPr>
              <a:t>METODOLOGÍA Y FUENTE DE DA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ccff"/>
                </a:solidFill>
                <a:latin typeface="Verdana"/>
                <a:ea typeface="Arial"/>
              </a:rPr>
              <a:t> </a:t>
            </a:r>
            <a:r>
              <a:rPr b="1" lang="es-ES" sz="2400" spc="-1" strike="noStrike">
                <a:solidFill>
                  <a:srgbClr val="00ccff"/>
                </a:solidFill>
                <a:latin typeface="Verdana"/>
                <a:ea typeface="Arial"/>
              </a:rPr>
              <a:t>El análisis de estos elementos </a:t>
            </a:r>
            <a:r>
              <a:rPr b="1" lang="es-ES_tradnl" sz="2400" spc="-1" strike="noStrike">
                <a:solidFill>
                  <a:srgbClr val="00ccff"/>
                </a:solidFill>
                <a:latin typeface="Verdana"/>
                <a:ea typeface="Arial"/>
              </a:rPr>
              <a:t>toma </a:t>
            </a:r>
            <a:r>
              <a:rPr b="1" lang="es-ES" sz="2400" spc="-1" strike="noStrike">
                <a:solidFill>
                  <a:srgbClr val="00ccff"/>
                </a:solidFill>
                <a:latin typeface="Verdana"/>
                <a:ea typeface="Arial"/>
              </a:rPr>
              <a:t>en cuenta además las </a:t>
            </a:r>
            <a:r>
              <a:rPr b="1" i="1" lang="es-ES" sz="2400" spc="-1" strike="noStrike">
                <a:solidFill>
                  <a:srgbClr val="00ccff"/>
                </a:solidFill>
                <a:latin typeface="Verdana"/>
                <a:ea typeface="Arial"/>
              </a:rPr>
              <a:t>particularidades del</a:t>
            </a:r>
            <a:r>
              <a:rPr b="1" lang="es-ES" sz="2400" spc="-1" strike="noStrike">
                <a:solidFill>
                  <a:srgbClr val="00ccff"/>
                </a:solidFill>
                <a:latin typeface="Verdana"/>
                <a:ea typeface="Arial"/>
              </a:rPr>
              <a:t> </a:t>
            </a:r>
            <a:r>
              <a:rPr b="1" i="1" lang="es-ES" sz="2400" spc="-1" strike="noStrike">
                <a:solidFill>
                  <a:srgbClr val="00ccff"/>
                </a:solidFill>
                <a:latin typeface="Verdana"/>
                <a:ea typeface="Arial"/>
              </a:rPr>
              <a:t>sistema económico e institucional</a:t>
            </a:r>
            <a:r>
              <a:rPr b="1" lang="es-ES" sz="2400" spc="-1" strike="noStrike">
                <a:solidFill>
                  <a:srgbClr val="00ccff"/>
                </a:solidFill>
                <a:latin typeface="Verdana"/>
                <a:ea typeface="Arial"/>
              </a:rPr>
              <a:t> en el cual se efectúan las nuevas inici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ccff"/>
                </a:solidFill>
                <a:latin typeface="Verdana"/>
                <a:ea typeface="Arial"/>
              </a:rPr>
              <a:t>Estas operaciones permitirán definir una suerte de “historia” acerca de la evolución de los grupos de empresas nacidas en varios años, en el marco del ámbito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Arial"/>
              </a:rPr>
              <a:t>Estado de Situación: Análisis de Resultados alcanzados y Reformul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25780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23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530360" indent="-11556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3880"/>
            <a:ext cx="861048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Verdana"/>
                <a:ea typeface="Arial"/>
              </a:rPr>
              <a:t>IMPACTO</a:t>
            </a: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C</a:t>
            </a:r>
            <a:r>
              <a:rPr b="1" lang="es-ES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on esta investigación se </a:t>
            </a:r>
            <a:r>
              <a:rPr b="1" lang="es-ES_tradnl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viene logrando</a:t>
            </a:r>
            <a:r>
              <a:rPr b="1" lang="es-ES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 un análisis dinámico de las características, internas y contextuales, que son consideradas de extremo interés a los fines del</a:t>
            </a:r>
            <a:r>
              <a:rPr b="1" lang="es-ES_tradnl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conocimiento de la evolución</a:t>
            </a:r>
            <a:r>
              <a:rPr b="1" lang="es-ES_tradnl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de las </a:t>
            </a:r>
            <a:r>
              <a:rPr b="1" lang="es-ES_tradnl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ERC de la localidad de Tand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ff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Arial"/>
              </a:rPr>
              <a:t> </a:t>
            </a:r>
            <a:r>
              <a:rPr b="0" lang="es-ES_tradnl" sz="36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23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530360" indent="-11556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3716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Arial"/>
                <a:ea typeface="Times New Roman"/>
              </a:rPr>
              <a:t>   </a:t>
            </a:r>
            <a:r>
              <a:rPr b="1" lang="es-ES" sz="2000" spc="-1" strike="noStrike">
                <a:solidFill>
                  <a:srgbClr val="66ff66"/>
                </a:solidFill>
                <a:latin typeface="Arial"/>
                <a:ea typeface="Times New Roman"/>
              </a:rPr>
              <a:t>GRADO DE EJECUCIÓN  DE LOS OBJETIVOS </a:t>
            </a:r>
            <a:br>
              <a:rPr sz="2000"/>
            </a:br>
            <a:r>
              <a:rPr b="1" lang="es-ES" sz="2000" spc="-1" strike="noStrike">
                <a:solidFill>
                  <a:srgbClr val="66ff66"/>
                </a:solidFill>
                <a:latin typeface="Arial"/>
                <a:ea typeface="Times New Roman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66ff66"/>
                </a:solidFill>
                <a:latin typeface="Arial"/>
                <a:ea typeface="Times New Roman"/>
              </a:rPr>
              <a:t>Se </a:t>
            </a:r>
            <a:r>
              <a:rPr b="1" lang="es-ES_tradnl" sz="2000" spc="-1" strike="noStrike">
                <a:solidFill>
                  <a:srgbClr val="66ff66"/>
                </a:solidFill>
                <a:latin typeface="Arial"/>
                <a:ea typeface="Times New Roman"/>
              </a:rPr>
              <a:t> implementó el trabajo de campo</a:t>
            </a:r>
            <a:r>
              <a:rPr b="1" lang="es-ES" sz="2000" spc="-1" strike="noStrike">
                <a:solidFill>
                  <a:srgbClr val="66ff66"/>
                </a:solidFill>
                <a:latin typeface="Arial"/>
                <a:ea typeface="Times New Roman"/>
              </a:rPr>
              <a:t> para la clasificación de </a:t>
            </a:r>
            <a:r>
              <a:rPr b="1" lang="es-ES_tradnl" sz="2000" spc="-1" strike="noStrike">
                <a:solidFill>
                  <a:srgbClr val="66ff66"/>
                </a:solidFill>
                <a:latin typeface="Arial"/>
                <a:ea typeface="Times New Roman"/>
              </a:rPr>
              <a:t> las ERC:</a:t>
            </a:r>
            <a:br>
              <a:rPr sz="2000"/>
            </a:br>
            <a:r>
              <a:rPr b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S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e relevaron y clasificaron las 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ERC de la localidad de Tandil durante los años 2000-2003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de acuerdo a 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determinadas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variables, tales como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: 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ño de inicio, actividades realizadas, número de socios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nacimiento de la idea, motivación para la creación, tradición familiar,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modalidad 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de ejecución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, tipo de producción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e innovaciones realizadas,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recursos, apoyo institucional, redes,  problemáticas de gestación y consolidación...  </a:t>
            </a:r>
            <a:br>
              <a:rPr sz="2000"/>
            </a:br>
            <a:br>
              <a:rPr sz="2400"/>
            </a:b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Mediante este análisis se 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Arial"/>
              </a:rPr>
              <a:t>logró </a:t>
            </a: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detallar las características de las nuevas iniciativas de empresas, la consistencia en el tiempo, el número de ocupados, las inversiones iniciales y el facturado en los primeros años de vid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457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530360" indent="-11556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685800"/>
            <a:ext cx="8839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Arial"/>
              </a:rPr>
              <a:t> </a:t>
            </a:r>
            <a:r>
              <a:rPr b="1" i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PROYECCIÓN DE ACTIVIDADES ETAPA FINAL – AÑ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Análisis de las ERC de los sectores identific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con mayor dinamismo en la localidad:</a:t>
            </a: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- </a:t>
            </a:r>
            <a:r>
              <a:rPr b="1" i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Tu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 </a:t>
            </a:r>
            <a:r>
              <a:rPr b="1" i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	</a:t>
            </a:r>
            <a:r>
              <a:rPr b="1" i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	</a:t>
            </a:r>
            <a:r>
              <a:rPr b="1" i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	</a:t>
            </a:r>
            <a:r>
              <a:rPr b="1" i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- Metalmec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  <a:ea typeface="Arial"/>
              </a:rPr>
              <a:t>- Constr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Creación de competitividad colectiva: Análisis d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530360" indent="-11556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90720"/>
            <a:ext cx="914400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Verdana"/>
                <a:ea typeface="Arial"/>
              </a:rPr>
              <a:t>RESULTADOS </a:t>
            </a: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Arial"/>
              </a:rPr>
              <a:t>ALCANZADOS  AÑO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Arial"/>
              </a:rPr>
              <a:t>Comunicaciones Científicas y Pub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“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Empresas de Reciente Creación: Análisis de las características de los procesos empresariales en la localidad de Tandil”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; 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María Claudia D´Annunzio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y Patricia Laura Rábago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; </a:t>
            </a:r>
            <a:r>
              <a:rPr b="1" lang="es-AR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IX</a:t>
            </a:r>
            <a:r>
              <a:rPr b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Reunión RED PYME-MERCOSUR</a:t>
            </a:r>
            <a:r>
              <a:rPr b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General Sarmiento, </a:t>
            </a:r>
            <a:r>
              <a:rPr b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Octubre de 2004</a:t>
            </a:r>
            <a:r>
              <a:rPr b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</a:rPr>
              <a:t>Perfil de las mujeres emprendedoras exitosas de Argentina”, 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Patricia Laura Rábago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María Claudia 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D´Annunzio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y Silvia Monserrat; 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</a:rPr>
              <a:t>III CIPEAL, Brasil, Noviembre de 20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</a:rPr>
              <a:t>Las redes empresariales en el contexto local “, 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María Claudia D´Annunzio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y Patricia Laura Rábago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Información Tecnológica, CIT, Chile ( enviado a publica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“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Elementos que caracterizan a las  actividades emprendidas en la localidad de Tandil”,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María Claudia D´Annunzio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es-E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y Patricia Laura Rábago</a:t>
            </a:r>
            <a:r>
              <a:rPr b="1" i="1" lang="es-ES_tradnl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Información Tecnológica, CIT, Chile (en proces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Arial"/>
              </a:rPr>
              <a:t>- </a:t>
            </a:r>
            <a:r>
              <a:rPr b="0" lang="es-ES_tradnl" sz="36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530360" indent="-11556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90720"/>
            <a:ext cx="914400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Verdana"/>
                <a:ea typeface="Arial"/>
              </a:rPr>
              <a:t>RESULTADOS </a:t>
            </a: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Arial"/>
              </a:rPr>
              <a:t>ALCANZADOS 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Verdana"/>
                <a:ea typeface="Arial"/>
              </a:rPr>
              <a:t>Comunicación Docente y Ext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i="1" lang="es-AR" sz="2000" spc="-1" strike="noStrike">
                <a:solidFill>
                  <a:srgbClr val="ffff66"/>
                </a:solidFill>
                <a:latin typeface="Arial"/>
                <a:ea typeface="Arial"/>
              </a:rPr>
              <a:t>La enseñanza universitaria de emprendedorismo: La experiencia de la UNICEN; </a:t>
            </a:r>
            <a:r>
              <a:rPr b="1" i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María Claudia D´Annunzio, Raúl Moyano</a:t>
            </a:r>
            <a:r>
              <a:rPr b="1" i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y Patricia Laura Rábago</a:t>
            </a:r>
            <a:r>
              <a:rPr b="1" i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r>
              <a:rPr b="1" i="1" lang="es-AR" sz="2000" spc="-1" strike="noStrike">
                <a:solidFill>
                  <a:srgbClr val="ffff66"/>
                </a:solidFill>
                <a:latin typeface="Arial"/>
                <a:ea typeface="Arial"/>
              </a:rPr>
              <a:t> I Worskshop de Formación de Emprendedores Universitarios del Mercosur</a:t>
            </a:r>
            <a:r>
              <a:rPr b="1" i="1" lang="es-AR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r>
              <a:rPr b="1" i="1" lang="es-AR" sz="2000" spc="-1" strike="noStrike">
                <a:solidFill>
                  <a:srgbClr val="ffff66"/>
                </a:solidFill>
                <a:latin typeface="Arial"/>
                <a:ea typeface="Arial"/>
              </a:rPr>
              <a:t>Universidad Nacional de Luján, 19 y 20 de Agost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ffff66"/>
                </a:solidFill>
                <a:latin typeface="Arial"/>
              </a:rPr>
              <a:t>II Jornada Emprendedora, “La Ciencia y el Arte de Emprender”, 24 y 25 de Octubre de 2004, Tand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523880"/>
            <a:ext cx="8077320" cy="64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ff"/>
                </a:solidFill>
                <a:latin typeface="Arial"/>
              </a:rPr>
              <a:t>Muchas Gracias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Arial"/>
              </a:rPr>
              <a:t>Contact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nnunzio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@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con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unicen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edu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.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rabago@econ.unicen.edu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447920"/>
            <a:ext cx="80010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INTEGRANT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Directora :  María Claudia D’Annunzio (UNCP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Asesores Científico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Ana Rearte  (U.N. Mar del Pl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Marco Vivarelli (Università del Sacro Cuore, Piacenza, ITAL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Investigador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66"/>
                </a:solidFill>
                <a:latin typeface="Verdana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     </a:t>
            </a: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Patricia Laura Rábago (Exclusiva, UNCP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     </a:t>
            </a: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Raúl Moyano (Becario Auxiliar, C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676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371600"/>
            <a:ext cx="8686800" cy="38221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OBJETIVOS DE LA INVESTIG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OBJETIV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l objetivo general es estudiar los elementos que influyen en la generación y consolidación de las empresas creadas durante el período 1998-2002 en la localidad de Tandil, formulando un seguimiento de las mismas durante los años 2003 al 2005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1676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05080"/>
            <a:ext cx="9144000" cy="5483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OBJETIVOS PARTIC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1. Conocer la influencia del medio ambiente local en el proceso de creación y consolidación de nuevas empres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2. Analizar los elementos que caracterizan a las nuevas empresas (tipo de emprendimiento, grado de innovación que introduce respecto a la estructura productiva local; etc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3. Conocer las estructuras y estrategias organizativas de las empresas de reciente crea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. Conocer la problemática sectorial que enfrentan los nuevos emprendimientos para su supervivencia, consolidación y desar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6. </a:t>
            </a:r>
            <a:r>
              <a:rPr b="1" lang="es-AR" sz="1800" spc="-1" strike="noStrike">
                <a:solidFill>
                  <a:srgbClr val="ffffff"/>
                </a:solidFill>
                <a:latin typeface="Verdana"/>
                <a:ea typeface="Arial"/>
              </a:rPr>
              <a:t>Identificar el perfil de las actuaciones públicas para el fomento de nuevas empres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7.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Estudiar el menú de tecnologías de gestión aptas para favorecer el desarrollo satisfactorio de las ERC según las características que revisten en el espacio lo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80010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ccff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Times New Roman"/>
              </a:rPr>
              <a:t>METODOLOGÍA Y FUENTE DE DATOS</a:t>
            </a:r>
            <a:r>
              <a:rPr b="1" lang="es-ES_tradnl" sz="2000" spc="-1" strike="noStrike">
                <a:solidFill>
                  <a:srgbClr val="00ccff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Verdana"/>
                <a:ea typeface="Arial"/>
              </a:rPr>
              <a:t>El proyecto incluye una parte </a:t>
            </a:r>
            <a:r>
              <a:rPr b="1" i="1" lang="es-ES" sz="2800" spc="-1" strike="noStrike">
                <a:solidFill>
                  <a:srgbClr val="00ccff"/>
                </a:solidFill>
                <a:latin typeface="Verdana"/>
                <a:ea typeface="Arial"/>
              </a:rPr>
              <a:t>descriptiva general</a:t>
            </a:r>
            <a:r>
              <a:rPr b="1" lang="es-ES" sz="2800" spc="-1" strike="noStrike">
                <a:solidFill>
                  <a:srgbClr val="00ccff"/>
                </a:solidFill>
                <a:latin typeface="Verdana"/>
                <a:ea typeface="Arial"/>
              </a:rPr>
              <a:t> y otra en la que se genera un </a:t>
            </a:r>
            <a:r>
              <a:rPr b="1" i="1" lang="es-ES" sz="2800" spc="-1" strike="noStrike">
                <a:solidFill>
                  <a:srgbClr val="00ccff"/>
                </a:solidFill>
                <a:latin typeface="Verdana"/>
                <a:ea typeface="Arial"/>
              </a:rPr>
              <a:t>análisis integral</a:t>
            </a:r>
            <a:r>
              <a:rPr b="1" lang="es-ES" sz="2800" spc="-1" strike="noStrike">
                <a:solidFill>
                  <a:srgbClr val="00ccff"/>
                </a:solidFill>
                <a:latin typeface="Verdana"/>
                <a:ea typeface="Arial"/>
              </a:rPr>
              <a:t> que determina la incidencia, grado y dirección de las variables más significativas que explican el proceso de creación y desarrollo de las </a:t>
            </a:r>
            <a:r>
              <a:rPr b="1" lang="es-ES_tradnl" sz="2800" spc="-1" strike="noStrike">
                <a:solidFill>
                  <a:srgbClr val="00ccff"/>
                </a:solidFill>
                <a:latin typeface="Verdana"/>
                <a:ea typeface="Arial"/>
              </a:rPr>
              <a:t>ERC</a:t>
            </a:r>
            <a:r>
              <a:rPr b="1" lang="es-ES" sz="2800" spc="-1" strike="noStrike">
                <a:solidFill>
                  <a:srgbClr val="00ccff"/>
                </a:solidFill>
                <a:latin typeface="Verdana"/>
                <a:ea typeface="Arial"/>
              </a:rPr>
              <a:t> en el entorno loca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25780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914400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Times New Roman"/>
              </a:rPr>
              <a:t>METODOLOGÍA Y FUENTE DE DATOS</a:t>
            </a:r>
            <a:r>
              <a:rPr b="1" lang="es-ES_tradnl" sz="2000" spc="-1" strike="noStrike">
                <a:solidFill>
                  <a:srgbClr val="00cc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La </a:t>
            </a:r>
            <a:r>
              <a:rPr b="1" lang="es-ES" sz="2400" spc="-1" strike="noStrike" u="sng">
                <a:solidFill>
                  <a:srgbClr val="00ccff"/>
                </a:solidFill>
                <a:uFillTx/>
                <a:latin typeface="Arial"/>
                <a:ea typeface="Arial"/>
              </a:rPr>
              <a:t>primera etapa</a:t>
            </a: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 del proyecto se divide en dos fases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00ccff"/>
              </a:buClr>
              <a:buFont typeface="Arial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ccff"/>
                </a:solidFill>
                <a:latin typeface="Arial"/>
                <a:ea typeface="Arial"/>
              </a:rPr>
              <a:t>D</a:t>
            </a:r>
            <a:r>
              <a:rPr b="1" i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efinición del universo de análisis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Arial"/>
              </a:rPr>
              <a:t>:</a:t>
            </a: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 Para recabar la información necesaria en este estudio se trabaj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 sobre un panel de emprendimientos de reciente creación, surgidos de dos bases complementarias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Arial"/>
              </a:rPr>
              <a:t>:</a:t>
            </a: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 una proveniente de los  </a:t>
            </a:r>
            <a:r>
              <a:rPr b="1" i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emprendimientos que sobrevivieron a su gestación</a:t>
            </a: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, detectados por medio de una muestra poblacional en el trabajo de investigación efectuado anteriormente, y otra, de los </a:t>
            </a:r>
            <a:r>
              <a:rPr b="1" i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registros de altas municipal depu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66"/>
                </a:solidFill>
                <a:latin typeface="Arial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66ff66"/>
                </a:solidFill>
                <a:latin typeface="Arial"/>
                <a:ea typeface="Times New Roman"/>
              </a:rPr>
              <a:t>Estado de Situación: Comple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25780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914400"/>
            <a:ext cx="8686800" cy="41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cc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Times New Roman"/>
              </a:rPr>
              <a:t>METODOLOGÍA Y FUENTE DE DAT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Arial"/>
              </a:rPr>
              <a:t>II) Análisis de</a:t>
            </a: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 las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empresas “realmente nuevas”, cuyas actividades hayan sido iniciadas durante el periodo 2000-200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Arial"/>
              </a:rPr>
              <a:t>3</a:t>
            </a: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. Se apunta así a lograr una “fotografía” de las mismas, con referencia al momento de su constitución, en base a algunas características que permitan conocer los elementos de fondo que caracterizan a las nuevas iniciativas empresariales en el marco lo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25780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914400"/>
            <a:ext cx="8686800" cy="58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ccff"/>
                </a:solidFill>
                <a:latin typeface="Arial"/>
                <a:ea typeface="Times New Roman"/>
              </a:rPr>
              <a:t>METODOLOGÍA Y FUENTE DE DATOS 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ccff"/>
                </a:solidFill>
                <a:latin typeface="Arial"/>
                <a:ea typeface="Arial"/>
              </a:rPr>
              <a:t>A modo de análisis individual, se formula un estudio desde el origen del emprendimiento, de su estructura organizacional, de la salida de sus productos como de los mercados cubiertos, y de la identificación de proveedores y clientes. Se pretende así evidenciar el grado de relación (redes) entre la nueva empresa  y las empresas existentes (trabajos terciarizados, a contrato, trabajos directamente para el mercado) y las estrategias implement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66"/>
                </a:solidFill>
                <a:latin typeface="Arial"/>
                <a:ea typeface="Arial"/>
              </a:rPr>
              <a:t>Estado de Situación: En  proceso de análisis y elaboración de resulat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cc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25780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219320"/>
            <a:ext cx="86868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66ff66"/>
                </a:solidFill>
                <a:latin typeface="Arial"/>
                <a:ea typeface="Times New Roman"/>
              </a:rPr>
              <a:t>METODOLOGÍA Y FUENTE DE DATOS</a:t>
            </a:r>
            <a:r>
              <a:rPr b="1" lang="es-ES_tradnl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LA </a:t>
            </a:r>
            <a:r>
              <a:rPr b="1" i="1" lang="es-ES" sz="1800" spc="-1" strike="noStrike" u="sng">
                <a:solidFill>
                  <a:srgbClr val="66ff66"/>
                </a:solidFill>
                <a:uFillTx/>
                <a:latin typeface="Verdana"/>
                <a:ea typeface="Arial"/>
              </a:rPr>
              <a:t>SEGUNDA ETAP</a:t>
            </a:r>
            <a:r>
              <a:rPr b="1" i="1" lang="es-ES_tradnl" sz="1800" spc="-1" strike="noStrike" u="sng">
                <a:solidFill>
                  <a:srgbClr val="66ff66"/>
                </a:solidFill>
                <a:uFillTx/>
                <a:latin typeface="Verdana"/>
                <a:ea typeface="Arial"/>
              </a:rPr>
              <a:t>A</a:t>
            </a:r>
            <a:r>
              <a:rPr b="1" i="1" lang="es-ES_tradnl" sz="1800" spc="-1" strike="noStrike">
                <a:solidFill>
                  <a:srgbClr val="66ff66"/>
                </a:solidFill>
                <a:latin typeface="Verdana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66"/>
                </a:solidFill>
                <a:latin typeface="Verdana"/>
                <a:ea typeface="Arial"/>
              </a:rPr>
              <a:t>A</a:t>
            </a:r>
            <a:r>
              <a:rPr b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nálisis </a:t>
            </a: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dinámico</a:t>
            </a:r>
            <a:r>
              <a:rPr b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, </a:t>
            </a:r>
            <a:r>
              <a:rPr b="1" lang="es-ES_tradnl" sz="1800" spc="-1" strike="noStrike">
                <a:solidFill>
                  <a:srgbClr val="66ff66"/>
                </a:solidFill>
                <a:latin typeface="Verdana"/>
                <a:ea typeface="Arial"/>
              </a:rPr>
              <a:t>para </a:t>
            </a:r>
            <a:r>
              <a:rPr b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estudiar la evolución de las nuevas empresas </a:t>
            </a:r>
            <a:r>
              <a:rPr b="1" lang="es-ES_tradnl" sz="1800" spc="-1" strike="noStrike">
                <a:solidFill>
                  <a:srgbClr val="66ff66"/>
                </a:solidFill>
                <a:latin typeface="Verdana"/>
                <a:ea typeface="Arial"/>
              </a:rPr>
              <a:t>en el tiemp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Esto tiende a evidenciar los factores que inciden en la evolución de las nuevas iniciativas empresariales, es decir los </a:t>
            </a: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elementos que favorecen su consolidación</a:t>
            </a:r>
            <a:r>
              <a:rPr b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, y aquellas que por el contrario  </a:t>
            </a:r>
            <a:r>
              <a:rPr b="1" i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inciden en modo negativo</a:t>
            </a:r>
            <a:r>
              <a:rPr b="1" lang="es-ES" sz="1800" spc="-1" strike="noStrike">
                <a:solidFill>
                  <a:srgbClr val="66ff66"/>
                </a:solidFill>
                <a:latin typeface="Verdana"/>
                <a:ea typeface="Arial"/>
              </a:rPr>
              <a:t>, determinando muchas veces la cesación de las actividades en el marco de un determinado sistema económ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ccff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25780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20:59:09Z</dcterms:created>
  <dc:creator>Claudia D´Annunzio</dc:creator>
  <dc:description/>
  <dc:language>en-US</dc:language>
  <cp:lastModifiedBy>Boxes de Economicas</cp:lastModifiedBy>
  <dcterms:modified xsi:type="dcterms:W3CDTF">2004-12-02T14:00:40Z</dcterms:modified>
  <cp:revision>147</cp:revision>
  <dc:subject>Presentación  </dc:subject>
  <dc:title>III CIPEAL - BRASIL</dc:title>
</cp:coreProperties>
</file>