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7B4-CBD1-4201-8482-9BAE717D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3B6-CB47-4A6A-BDBA-2952676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C91-0D60-43F0-975D-3ADBBB8A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930-2837-4B01-B1B1-1AD3C39B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123-EC0B-4698-B01D-9F5C42F4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A56-BF34-4B1A-90BE-B0C9B028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13F-6073-42A9-9103-285B5F2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79E-E2B2-4103-8502-41F4CC5A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A85-11F6-4E83-8378-2FC63462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5A6-935A-4DC4-BFD3-052C203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5D0-626D-4089-B1E7-926E6E6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D7A-D00B-42BE-9657-9DB1F88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C35A-3488-4CB3-BB14-EC2F9D4D3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438280"/>
            <a:ext cx="755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Objetivo General</a:t>
            </a:r>
            <a:r>
              <a:rPr b="0" lang="es-AR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Aportar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los ámbitos socio-económico, académico y educativo el conocimiento empírico resultante de la </a:t>
            </a: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prestación de asistencia técnica en tecnologías de gestión de calidad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organizaciones privadas y públicas seleccionadas por el </a:t>
            </a: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interés conceptual de su problemática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81920" y="68580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GESTIÓN DE LA CALIDA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8840" y="1371600"/>
            <a:ext cx="66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Directores: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osé Luis Tesoro - Gloria Tro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Integrante/Colaborador: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uis A. Pach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65040"/>
            <a:ext cx="7162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.- 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PRESENTACONES A GONGRESOS Y PUBLICA-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delo de Programación Lineal de nivel táctico, canadiense, y su aplicación en empresas pesqueras de Mar del Plata“.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rovato Gloria - Juan Arrascada- Anales en CD XV Escuela de Perfeccionamiento en I.O. - ISBN 950 658 136 3, del 26 al 29 de Mayo de 2004 - Tandil – Arg. E:\Encuentros\Encuentro 2004\Trabajos\TROVATO.pdf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 Gestión por Competencias aplicada a PyMEs con Sistemas de Gestión de la Calidad (Norma ISO 9001:2000)” –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. Trovato – L. Pacheco – G. Farah – II Congreso de Gestión de la Calidad de la ciudad de Buenos Aires – 29 de Septiembre al 1 de Octubre de 2004 – www.calidadba.gov.ar - Bs As – Argentina.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04920"/>
            <a:ext cx="73152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.- 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PRESENTACONES A GONGRESOS Y PUBLICA-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   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"Mejora de la Calidad del Proceso de Gestión de Pedidos” -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. Trovato – L. Pacheco – G. Scolaro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–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I Congreso de Gestión de la Calidad de la ciudad de Buenos Aires – 29 de Septiembre al 1 de Octubre de 2004 – www.calidadba.gov.ar - Buenos Aires – Argenti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ptimización de Recursos Logísticos: Caso FAA - Tandil”,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rovato Gloria – Juan Bidauri – XXXVI Simposio Brasileiro de Pesquisa Operacional - SOBRAPO (Sociedade Brasileira de Pesquisa Operacional) -  23 al 26 de Noviembre de 2004 -  Sao Joao del Rei, Minas Gerais - Brasil.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04920"/>
            <a:ext cx="73152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.- 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PRESENTACONES A GONGRESOS Y PUBLICA-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stos de Captura de Empresas Pesqueras de Mar del Plata – Aplicación de modelo de Programación Lineal”,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rovato Gloria – Juan Arrascada – XXXVI Simposio Brasileiro de Pesquisa Operacional - SOBRAPO (Sociedade Brasileira de Pesquisa Operacional) -  23 al 26 de Noviembre de 2004 -  Sao Joao del Rei, Minas Gerais - Brasil.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plicación del Enfoque a Procesos – Caso: Banco de Alimentos Tandil”, Trovato Gloria –Barbero Carolina – Rodriguez Julián –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XXVI Simposio Brasileiro de Pesquisa Operacional - SOBRAPO (Sociedade Brasileira de Pesquisa Operacional) -  23 al 26 de Nov. de 2004 -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ao Joao del Rei, Minas Gerais - Brasi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762120"/>
            <a:ext cx="73152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Establecimientos Edu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PRESENTACONES A GONGRESOS Y PUBLICA-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stema de Gestión de la Calidad en la Escuela Media” -G. Trovato – D. Lauría –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I Congreso de Gestión de la Calidad de la ciudad de Buenos Aires – 29 de Septiembre al 1 de Octubre de 2004 – www.calidadba.gov.ar - Buenos Aires – Argenti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stema de Gestión de la Calidad en los Establecimientos Educativos – Importancia de la voz del cliente”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– Trovato Gloria – III Congreso Regional del Management Educativo – 20 de Noviembre de 2004 – Tandil – Buenos Aires – Argentina.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685800"/>
            <a:ext cx="7315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FORMACION DE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  <a:ea typeface="Arial"/>
              </a:rPr>
              <a:t>Tesis de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"Programación Lineal: Aplicaciones Especiales", presentado por el alumno Juan M. Bidauri - Febrero 200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"Trazabilidad en carne y sus implicancias en la calidad", presentado por la alumna Florencia Lagleyse - Junio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edición de la calidad de servicio en una empresa de distribución”, presentado por el alumno Franco Aguerre – 14 de Septiembre 2004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04920"/>
            <a:ext cx="73152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FORMACION DE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Comic Sans MS"/>
                <a:ea typeface="Arial"/>
              </a:rPr>
              <a:t>Tesis de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ptimización en la industria pesquera”,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esentado por el alumno Juan Arrascada – 25 de Septiembre 2004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 calidad del servicio, pilar estratégico del sector hotelero: Un caso local”, presentado por el alumno Carlos Reynaldo Salvatore – 04 de Octubre de 200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4784760"/>
            <a:ext cx="45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  <a:ea typeface="Arial"/>
              </a:rPr>
              <a:t>Apoyo a la investigación</a:t>
            </a:r>
            <a:r>
              <a:rPr b="1" lang="es-MX" sz="2000" spc="-1" strike="noStrike">
                <a:solidFill>
                  <a:srgbClr val="800080"/>
                </a:solidFill>
                <a:latin typeface="Arial"/>
                <a:ea typeface="Arial"/>
              </a:rPr>
              <a:t>: </a:t>
            </a:r>
            <a:r>
              <a:rPr b="0" lang="es-MX" sz="20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3 Alum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jora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14600" y="995400"/>
            <a:ext cx="6095880" cy="48488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a) Comunidad socio-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s-ES" sz="2400" spc="-1" strike="noStrike">
                <a:solidFill>
                  <a:srgbClr val="990099"/>
                </a:solidFill>
                <a:latin typeface="Comic Sans MS"/>
                <a:ea typeface="Arial"/>
              </a:rPr>
              <a:t>Analiza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cuestiones vinculadas a la calidad en las distintas áreas de las organizaciones seleccionadas y contribuir en la detección de problemas y en la formulación de propuestas de mej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Comic Sans MS"/>
                <a:ea typeface="Arial"/>
              </a:rPr>
              <a:t>Desarrollar y adapta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herramientas y técnicas de gestión de calidad adecuadas para las organizaciones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Comic Sans MS"/>
                <a:ea typeface="Arial"/>
              </a:rPr>
              <a:t>Contribui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n la formulación, ejecución y seguimiento de programas de asistencia técnica sobre calidad organiz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04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Objetivos Específic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5120" y="727200"/>
            <a:ext cx="7010280" cy="558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b) Comunidad acadé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r y difundir - en el plano regional, nacional e internacional - aportes relevantes y fundados en conocimiento empírico, medi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publicación de resultados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 medios con arbitraje (referato) y en medios de difusión sectorial y profes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activa </a:t>
            </a: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participación en redes de investigación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 otros centros nacionales, extranjeros e internacional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participación en foros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fesionales, académicos y sectoriales relevan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formación de recursos humanos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la investigación.</a:t>
            </a:r>
            <a:r>
              <a:rPr b="0" lang="es-ES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Objetivos Específic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1828800"/>
            <a:ext cx="7010280" cy="26542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Comic Sans MS"/>
                <a:ea typeface="Arial"/>
              </a:rPr>
              <a:t>c) Comunidad form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AR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Aportar a las cátedras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lementos originales y fundados que contribuyan a un mejor conocimiento de la realidad y de los requerimientos de gestión de calidad de los sectores y organizaciones locales y regionale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Objetivos Específic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Marco Teórico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219320"/>
            <a:ext cx="8229600" cy="26535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s-A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o Iberoamericano de Excelencia en la Gestión </a:t>
            </a:r>
            <a:r>
              <a:rPr b="0" lang="es-A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1]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fundido por la Fundación Ibero-americana para la Gestión de la Calidad (COD.: FUNDIBEQ 01/200M) ® No. M-82584 </a:t>
            </a:r>
            <a:r>
              <a:rPr b="0" lang="es-A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2]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reada en 1998 por un numeroso conjunto de empresas y entidades iberoamericana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832280"/>
            <a:ext cx="632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[1] Este modelo tiene su origen en el “Modelo Europeo de Excelencia Empresarial” (1992), revisado en 1999, y denominado a partir de dicha oportunidad, Modelo EFQM de Excelencia en la Gest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6386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] </a:t>
            </a:r>
            <a:r>
              <a:rPr b="0" lang="es-A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ación Iberoamericana para la Gestión de la Calidad: Sede en España Paseo del Rey, 30 – 3º, 28008 Madrid (Tlf.: 34 91 5403532, Fax: 34 91 5403503). Sitio Internet: www.fundibeq.or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2004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 </a:t>
            </a:r>
            <a:r>
              <a:rPr b="0" lang="es-AR" sz="32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2.- Gestión de la  C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      </a:t>
            </a:r>
            <a:r>
              <a:rPr b="0" lang="es-AR" sz="32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de Gobierno Electró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4778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.- Gestión de la Calidad en P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54000" y="434340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Responsable José Luis Tes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15240" y="213372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Responsable Gloria Tro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762120"/>
            <a:ext cx="80010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 </a:t>
            </a: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.- 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PROBLEMÁTICAS ABORDADAS A SOLICITUD DE DISTINT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Presencia de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efectos en Piezas Fundid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edición de habilidades y competencia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ficultad en la determinación de indic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ficultad en el seguimiento de indicadores y sus resu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esconocimiento de impactos en la empresa al implement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SG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foque de procesos. Definición de procesos cl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Implementación de mejora contin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edición de Satisfacción de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timización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7848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 </a:t>
            </a: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.- 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CONVE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Dificultad en el seguimiento de indicadores y su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"Sistema de Gestión de la calidad ISO 9001:2000, Implicancia de su utilización, automatización del seguimiento de los indicadores y resultados"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  <a:ea typeface="Arial"/>
              </a:rPr>
              <a:t>Presentación en la Jornada de Actualización dirigida a consultores, desarrollada en la sede del IRAM Litoral, Rosario, el 14 de Mayo de 2004.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80880"/>
            <a:ext cx="761976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.- 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     </a:t>
            </a:r>
            <a:r>
              <a:rPr b="1" i="1" lang="es-ES" sz="2000" spc="-1" strike="noStrike">
                <a:solidFill>
                  <a:srgbClr val="990099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990099"/>
                </a:solidFill>
                <a:latin typeface="Arial"/>
                <a:ea typeface="Arial"/>
              </a:rPr>
              <a:t>     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"La Inteligencia emocional como elemento tácito del PROACT" -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oautora: G. Trovato - P. Garcia - Revista de la Escuela de Investigación Operativa Nro. 24 - ISNN 0 329 7322 - Mayo de 2004 - Pág. 123/137</a:t>
            </a:r>
            <a:r>
              <a:rPr b="0" i="1" lang="es-ES" sz="2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PRESENTACIONES A GONGRESOS Y PUB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"Importancia y rol de los indicadores en un Sistema de Gestión de la Calidad: Aplicación de Cuadro de Mando Integral" -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rovato Gloria, Pacheco Luis - Anales en CD del 2do. Congreso Latinoamericano de calidad en la Industria del Petróleo y del Gas - Instituto Argentino del Petróleo y del Gas - 28 al 31 de Marzo de 2004 - Bariloche - Argentina. Pág. 1 a 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Resultado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191120"/>
            <a:ext cx="2666880" cy="2438280"/>
          </a:xfrm>
          <a:prstGeom prst="rtTriangle">
            <a:avLst/>
          </a:prstGeom>
          <a:solidFill>
            <a:srgbClr val="33cc33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6629400"/>
            <a:ext cx="58676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8600" y="304560"/>
            <a:ext cx="0" cy="388620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040" y="61722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stión de 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880" y="5440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Comic Sans MS"/>
              </a:rPr>
              <a:t>CE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49:56Z</dcterms:created>
  <dc:creator>q</dc:creator>
  <dc:description/>
  <dc:language>en-US</dc:language>
  <cp:lastModifiedBy>Box-47b</cp:lastModifiedBy>
  <dcterms:modified xsi:type="dcterms:W3CDTF">2004-12-03T17:14:17Z</dcterms:modified>
  <cp:revision>48</cp:revision>
  <dc:subject/>
  <dc:title>Presentación de PowerPoint</dc:title>
</cp:coreProperties>
</file>