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41E6-FFA3-4FAD-8871-D3E66971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248C-F82D-46A2-9CF2-635018BB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47A8-30DB-49F5-9775-1D638AA4D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602B-91A6-4ED6-B3D4-46B5163BB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4383-1E8F-4B7D-92D5-E8F3869DF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5F11-4197-4FB4-BA8F-3B41D892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B15E-AF96-4D1A-A7C9-6EAEA6AE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623B-BE9C-42E6-BC08-46088BE2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E300-F498-432B-9FC3-814C481A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F1C4-21E0-45FF-B75C-37709DDF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3E34-E227-4B1F-82BB-4D04F40B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CCEA-1CBA-4527-947A-BB5B36EC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1502-E3CD-42BD-9A42-A07C1437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9F63-0356-4CFB-B41C-7E804C19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3545-4E7B-4718-BA95-037E538F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9B9B-BF3A-4198-A0E9-A085CAC51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09F0-4194-4D70-8D5F-D16CDD302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9E9A-7C15-4E35-87AA-6E3277B2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F726-6C0A-44CD-95A6-A0919A0D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272C-65F0-4E8C-8735-C7763233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2C08-4286-456C-B245-4C96440D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418B-BF3C-40D7-A6E5-8C3AB626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8306-2619-4AC8-B2BE-644070FD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6F97-8204-445F-B5EA-8A4CB557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adcf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dc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adc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adc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adc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A231-664A-42D1-B50A-EB1BB80410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0384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C91E-7EFD-4F03-A9F9-9B52B4C5B4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dcf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9adcf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adcf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adcf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adcf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19280" y="69192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UJERES DE ÉXITO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43200" y="21333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dcf6"/>
                </a:solidFill>
                <a:latin typeface="Arial"/>
              </a:rPr>
              <a:t>Una investigación global</a:t>
            </a:r>
            <a:endParaRPr b="0" lang="en-US" sz="2800" spc="-1" strike="noStrike">
              <a:solidFill>
                <a:srgbClr val="9adcf6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619280" y="5157720"/>
            <a:ext cx="6227640" cy="720720"/>
            <a:chOff x="1619280" y="5157720"/>
            <a:chExt cx="6227640" cy="720720"/>
          </a:xfrm>
        </p:grpSpPr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5904000" y="5168880"/>
              <a:ext cx="1008000" cy="7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3"/>
            <a:stretch/>
          </p:blipFill>
          <p:spPr>
            <a:xfrm>
              <a:off x="1619280" y="5205240"/>
              <a:ext cx="96192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4"/>
            <a:stretch/>
          </p:blipFill>
          <p:spPr>
            <a:xfrm>
              <a:off x="4822920" y="5157720"/>
              <a:ext cx="108108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5"/>
            <a:stretch/>
          </p:blipFill>
          <p:spPr>
            <a:xfrm>
              <a:off x="2590920" y="5197320"/>
              <a:ext cx="1008000" cy="68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6"/>
            <a:stretch/>
          </p:blipFill>
          <p:spPr>
            <a:xfrm>
              <a:off x="3598920" y="5183280"/>
              <a:ext cx="1224000" cy="69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7"/>
            <a:stretch/>
          </p:blipFill>
          <p:spPr>
            <a:xfrm>
              <a:off x="6912000" y="5176800"/>
              <a:ext cx="934920" cy="701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adcf6"/>
                </a:solidFill>
                <a:latin typeface="Times New Roman"/>
              </a:rPr>
              <a:t>Futuros compromisos</a:t>
            </a: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63760" y="2314440"/>
            <a:ext cx="5759280" cy="215928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9adcf6"/>
              </a:gs>
              <a:gs pos="100000">
                <a:srgbClr val="dcf2f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486320" y="4038480"/>
            <a:ext cx="1512720" cy="1511280"/>
            <a:chOff x="4486320" y="4038480"/>
            <a:chExt cx="1512720" cy="1511280"/>
          </a:xfrm>
        </p:grpSpPr>
        <p:sp>
          <p:nvSpPr>
            <p:cNvPr id="198" name=""/>
            <p:cNvSpPr/>
            <p:nvPr/>
          </p:nvSpPr>
          <p:spPr>
            <a:xfrm>
              <a:off x="4486320" y="40384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be9932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486320" y="40384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be9932"/>
                </a:gs>
                <a:gs pos="100000">
                  <a:srgbClr val="d8c3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85320" y="41371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66521a"/>
                </a:gs>
                <a:gs pos="50000">
                  <a:srgbClr val="be9932"/>
                </a:gs>
                <a:gs pos="100000">
                  <a:srgbClr val="66521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85320" y="41371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5c4a18"/>
                </a:gs>
                <a:gs pos="100000">
                  <a:srgbClr val="be993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651200" y="420300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574617"/>
                </a:gs>
                <a:gs pos="100000">
                  <a:srgbClr val="be99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887400" y="4038480"/>
            <a:ext cx="1513080" cy="1511280"/>
            <a:chOff x="887400" y="4038480"/>
            <a:chExt cx="1513080" cy="1511280"/>
          </a:xfrm>
        </p:grpSpPr>
        <p:sp>
          <p:nvSpPr>
            <p:cNvPr id="204" name=""/>
            <p:cNvSpPr/>
            <p:nvPr/>
          </p:nvSpPr>
          <p:spPr>
            <a:xfrm>
              <a:off x="887400" y="40384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adcf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87400" y="40384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9adcf6"/>
                </a:gs>
                <a:gs pos="100000">
                  <a:srgbClr val="c7ebf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86400" y="413712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537684"/>
                </a:gs>
                <a:gs pos="50000">
                  <a:srgbClr val="9adcf6"/>
                </a:gs>
                <a:gs pos="100000">
                  <a:srgbClr val="53768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986400" y="413712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4a6a77"/>
                </a:gs>
                <a:gs pos="100000">
                  <a:srgbClr val="9adcf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52280" y="420300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466571"/>
                </a:gs>
                <a:gs pos="100000">
                  <a:srgbClr val="9adc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6359400" y="4038480"/>
            <a:ext cx="1513080" cy="1511280"/>
            <a:chOff x="6359400" y="4038480"/>
            <a:chExt cx="1513080" cy="1511280"/>
          </a:xfrm>
        </p:grpSpPr>
        <p:sp>
          <p:nvSpPr>
            <p:cNvPr id="210" name=""/>
            <p:cNvSpPr/>
            <p:nvPr/>
          </p:nvSpPr>
          <p:spPr>
            <a:xfrm>
              <a:off x="6359400" y="40384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b8ed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59400" y="40384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6b8ed3"/>
                </a:gs>
                <a:gs pos="100000">
                  <a:srgbClr val="9bb2e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58400" y="413712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394c71"/>
                </a:gs>
                <a:gs pos="50000">
                  <a:srgbClr val="6b8ed3"/>
                </a:gs>
                <a:gs pos="100000">
                  <a:srgbClr val="394c7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58400" y="413712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334466"/>
                </a:gs>
                <a:gs pos="100000">
                  <a:srgbClr val="6b8e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524280" y="420300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314161"/>
                </a:gs>
                <a:gs pos="100000">
                  <a:srgbClr val="6b8e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687760" y="4038480"/>
            <a:ext cx="1512720" cy="1511280"/>
            <a:chOff x="2687760" y="4038480"/>
            <a:chExt cx="1512720" cy="1511280"/>
          </a:xfrm>
        </p:grpSpPr>
        <p:sp>
          <p:nvSpPr>
            <p:cNvPr id="216" name=""/>
            <p:cNvSpPr/>
            <p:nvPr/>
          </p:nvSpPr>
          <p:spPr>
            <a:xfrm>
              <a:off x="2687760" y="40384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0b04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87760" y="40384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70b040"/>
                </a:gs>
                <a:gs pos="100000">
                  <a:srgbClr val="9ac7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786760" y="41371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3c5e22"/>
                </a:gs>
                <a:gs pos="50000">
                  <a:srgbClr val="70b040"/>
                </a:gs>
                <a:gs pos="100000">
                  <a:srgbClr val="3c5e2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86760" y="41371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36551f"/>
                </a:gs>
                <a:gs pos="100000">
                  <a:srgbClr val="70b0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52640" y="420300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33511d"/>
                </a:gs>
                <a:gs pos="100000">
                  <a:srgbClr val="70b0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1905120" y="1676520"/>
            <a:ext cx="4876560" cy="457200"/>
          </a:xfrm>
          <a:prstGeom prst="roundRect">
            <a:avLst>
              <a:gd name="adj" fmla="val 50000"/>
            </a:avLst>
          </a:prstGeom>
          <a:solidFill>
            <a:srgbClr val="2a99e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UES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01800" y="458136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AN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78360" y="466236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02160" y="450864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L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NT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86160" y="4292640"/>
            <a:ext cx="211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NAR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ACITACION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AC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11280" y="155736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adcf6"/>
                </a:solidFill>
                <a:latin typeface="Times New Roman"/>
              </a:rPr>
              <a:t>Concordia University  Canada</a:t>
            </a:r>
            <a:br>
              <a:rPr sz="2400"/>
            </a:br>
            <a:r>
              <a:rPr b="1" lang="en-US" sz="2400" spc="-1" strike="noStrike">
                <a:solidFill>
                  <a:srgbClr val="9adcf6"/>
                </a:solidFill>
                <a:latin typeface="Times New Roman"/>
              </a:rPr>
              <a:t>Memorial University of Newfoundland, Canada</a:t>
            </a:r>
            <a:br>
              <a:rPr sz="2400"/>
            </a:br>
            <a:r>
              <a:rPr b="1" lang="en-US" sz="2400" spc="-1" strike="noStrike">
                <a:solidFill>
                  <a:srgbClr val="9adcf6"/>
                </a:solidFill>
                <a:latin typeface="Times New Roman"/>
              </a:rPr>
              <a:t>Loyola University, Chicago, USA</a:t>
            </a:r>
            <a:br>
              <a:rPr sz="2400"/>
            </a:br>
            <a:r>
              <a:rPr b="1" lang="en-US" sz="2400" spc="-1" strike="noStrike">
                <a:solidFill>
                  <a:srgbClr val="9adcf6"/>
                </a:solidFill>
                <a:latin typeface="Times New Roman"/>
              </a:rPr>
              <a:t>Sam Houston State University, Texas, USA</a:t>
            </a:r>
            <a:br>
              <a:rPr sz="2400"/>
            </a:br>
            <a:r>
              <a:rPr b="1" lang="en-US" sz="2400" spc="-1" strike="noStrike">
                <a:solidFill>
                  <a:srgbClr val="9adcf6"/>
                </a:solidFill>
                <a:latin typeface="Times New Roman"/>
              </a:rPr>
              <a:t>Instituto Tecnológico Monterey, Mexico</a:t>
            </a:r>
            <a:br>
              <a:rPr sz="2400"/>
            </a:br>
            <a:r>
              <a:rPr b="1" lang="en-US" sz="2400" spc="-1" strike="noStrike">
                <a:solidFill>
                  <a:srgbClr val="9adcf6"/>
                </a:solidFill>
                <a:latin typeface="Times New Roman"/>
              </a:rPr>
              <a:t>University of the West Indies, Cave Hill, Barbados </a:t>
            </a:r>
            <a:br>
              <a:rPr sz="2400"/>
            </a:br>
            <a:r>
              <a:rPr b="1" lang="en-US" sz="2400" spc="-1" strike="noStrike">
                <a:solidFill>
                  <a:srgbClr val="9adcf6"/>
                </a:solidFill>
                <a:latin typeface="Times New Roman"/>
              </a:rPr>
              <a:t>P</a:t>
            </a:r>
            <a:r>
              <a:rPr b="1" lang="es-AR" sz="2400" spc="-1" strike="noStrike">
                <a:solidFill>
                  <a:srgbClr val="9adcf6"/>
                </a:solidFill>
                <a:latin typeface="Times New Roman"/>
              </a:rPr>
              <a:t>ontifica Catholica Universidade, Sao Paulo, Brazil</a:t>
            </a:r>
            <a:br>
              <a:rPr sz="2400"/>
            </a:br>
            <a:r>
              <a:rPr b="1" lang="es-AR" sz="2400" spc="-1" strike="noStrike">
                <a:solidFill>
                  <a:srgbClr val="9adcf6"/>
                </a:solidFill>
                <a:latin typeface="Times New Roman"/>
              </a:rPr>
              <a:t>Universidad Nacional del Centro, Argentina</a:t>
            </a:r>
            <a:r>
              <a:rPr b="1" lang="es-AR" sz="3600" spc="-1" strike="noStrike">
                <a:solidFill>
                  <a:srgbClr val="9adcf6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9adcf6"/>
                </a:solidFill>
                <a:latin typeface="Times New Roman"/>
              </a:rPr>
              <a:t> </a:t>
            </a:r>
            <a:br>
              <a:rPr sz="1800"/>
            </a:br>
            <a:endParaRPr b="1" lang="en-US" sz="3600" spc="-1" strike="noStrike">
              <a:solidFill>
                <a:srgbClr val="9adcf6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619280" y="3860640"/>
            <a:ext cx="6227640" cy="720720"/>
            <a:chOff x="1619280" y="3860640"/>
            <a:chExt cx="6227640" cy="720720"/>
          </a:xfrm>
        </p:grpSpPr>
        <p:pic>
          <p:nvPicPr>
            <p:cNvPr id="228" name="" descr=""/>
            <p:cNvPicPr/>
            <p:nvPr/>
          </p:nvPicPr>
          <p:blipFill>
            <a:blip r:embed="rId2"/>
            <a:stretch/>
          </p:blipFill>
          <p:spPr>
            <a:xfrm>
              <a:off x="5904000" y="3871800"/>
              <a:ext cx="1008000" cy="7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3"/>
            <a:stretch/>
          </p:blipFill>
          <p:spPr>
            <a:xfrm>
              <a:off x="1619280" y="3908160"/>
              <a:ext cx="96192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4"/>
            <a:stretch/>
          </p:blipFill>
          <p:spPr>
            <a:xfrm>
              <a:off x="4822920" y="3860640"/>
              <a:ext cx="108108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5"/>
            <a:stretch/>
          </p:blipFill>
          <p:spPr>
            <a:xfrm>
              <a:off x="2590920" y="3900240"/>
              <a:ext cx="1008000" cy="68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6"/>
            <a:stretch/>
          </p:blipFill>
          <p:spPr>
            <a:xfrm>
              <a:off x="3598920" y="3886200"/>
              <a:ext cx="1224000" cy="69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7"/>
            <a:stretch/>
          </p:blipFill>
          <p:spPr>
            <a:xfrm>
              <a:off x="6912000" y="3879720"/>
              <a:ext cx="934920" cy="70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"/>
          <p:cNvSpPr txBox="1"/>
          <p:nvPr/>
        </p:nvSpPr>
        <p:spPr>
          <a:xfrm>
            <a:off x="3348000" y="5084640"/>
            <a:ext cx="19908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70b040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GRACIAS</a:t>
            </a:r>
            <a:endParaRPr b="0" lang="en-US" sz="1800" spc="1" strike="noStrike">
              <a:ln w="9360">
                <a:solidFill>
                  <a:srgbClr val="70b040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adcf6"/>
                </a:solidFill>
                <a:latin typeface="Times New Roman"/>
              </a:rPr>
              <a:t>Objetivos</a:t>
            </a: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08000" y="1125360"/>
            <a:ext cx="5257800" cy="1224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574617"/>
              </a:gs>
              <a:gs pos="50000">
                <a:srgbClr val="be9932"/>
              </a:gs>
              <a:gs pos="100000">
                <a:srgbClr val="574617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2" marL="1257480" indent="-34308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2565360"/>
            <a:ext cx="5410080" cy="55872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13466c"/>
              </a:gs>
              <a:gs pos="50000">
                <a:srgbClr val="2a99ec"/>
              </a:gs>
              <a:gs pos="100000">
                <a:srgbClr val="13466c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3284640"/>
            <a:ext cx="5410080" cy="79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33511d"/>
              </a:gs>
              <a:gs pos="50000">
                <a:srgbClr val="70b040"/>
              </a:gs>
              <a:gs pos="100000">
                <a:srgbClr val="33511d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35280" y="4365720"/>
            <a:ext cx="5410080" cy="647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314161"/>
              </a:gs>
              <a:gs pos="50000">
                <a:srgbClr val="6b8ed3"/>
              </a:gs>
              <a:gs pos="100000">
                <a:srgbClr val="314161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50920" y="1197000"/>
            <a:ext cx="4969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eterminar en mujeres exitosas el grado de existencia de 3 características personales Necesidad de logros (Punnet, 1998) Foco de control (Spector, 1988) Auto-eficacia (Sherer, Maddus &amp; Mercandante, 198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8000" y="256536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erificar la existencia y grado de ment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79640" y="3357720"/>
            <a:ext cx="518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Medir 3 variables culturales (Hofstede) Individualismo/colectivismo,  Aversión a la incertidumbre, Distancia al pode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4437000"/>
            <a:ext cx="518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nalizar y comparar las mujeres de distintos países american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adcf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9adcf6"/>
                </a:solidFill>
                <a:latin typeface="Times New Roman"/>
              </a:rPr>
              <a:t>HIPÓTESIS</a:t>
            </a: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20241600">
            <a:off x="1077480" y="23094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2a99ec"/>
              </a:gs>
              <a:gs pos="100000">
                <a:srgbClr val="eaf4fc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9880" y="14479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70b040"/>
              </a:gs>
              <a:gs pos="100000">
                <a:srgbClr val="263c1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29718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be9932"/>
              </a:gs>
              <a:gs pos="100000">
                <a:srgbClr val="3b2f0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19640" y="3068640"/>
            <a:ext cx="25905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jeres de éxi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35640" y="907920"/>
            <a:ext cx="3456000" cy="935280"/>
          </a:xfrm>
          <a:prstGeom prst="wedgeRectCallout">
            <a:avLst>
              <a:gd name="adj1" fmla="val -62495"/>
              <a:gd name="adj2" fmla="val 41171"/>
            </a:avLst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Las mujeres exitosas comparten características personales sin importar las distintas ocupaciones o las culturas loca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84720" y="3789360"/>
            <a:ext cx="3059280" cy="1079640"/>
          </a:xfrm>
          <a:prstGeom prst="wedgeRectCallout">
            <a:avLst>
              <a:gd name="adj1" fmla="val -5736"/>
              <a:gd name="adj2" fmla="val -94703"/>
            </a:avLst>
          </a:prstGeom>
          <a:gradFill rotWithShape="0">
            <a:gsLst>
              <a:gs pos="0">
                <a:srgbClr val="00cc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Las mujeres exitosas tendrán altos scores en las características personales que se mid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40360" y="1700280"/>
            <a:ext cx="71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95640" y="4653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94160" y="3284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92360" y="5661000"/>
            <a:ext cx="3024000" cy="1008000"/>
          </a:xfrm>
          <a:prstGeom prst="wedgeRectCallout">
            <a:avLst>
              <a:gd name="adj1" fmla="val 47217"/>
              <a:gd name="adj2" fmla="val -82439"/>
            </a:avLst>
          </a:prstGeom>
          <a:gradFill rotWithShape="0">
            <a:gsLst>
              <a:gs pos="0">
                <a:srgbClr val="0099cc"/>
              </a:gs>
              <a:gs pos="100000">
                <a:srgbClr val="2b568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Los datos finales que midan las características culturales diferirán según el país y la reg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1628640"/>
            <a:ext cx="2427120" cy="1079640"/>
          </a:xfrm>
          <a:prstGeom prst="wedgeRectCallout">
            <a:avLst>
              <a:gd name="adj1" fmla="val 14680"/>
              <a:gd name="adj2" fmla="val 77939"/>
            </a:avLst>
          </a:prstGeom>
          <a:gradFill rotWithShape="0">
            <a:gsLst>
              <a:gs pos="0">
                <a:srgbClr val="be9932"/>
              </a:gs>
              <a:gs pos="100000">
                <a:srgbClr val="3333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La existencia de mentores será determinante del éxito de las muje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43657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9adcf6"/>
              </a:gs>
              <a:gs pos="100000">
                <a:srgbClr val="364e57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67280" y="4653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88000" y="227664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6b8ed3"/>
              </a:gs>
              <a:gs pos="100000">
                <a:srgbClr val="24304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04000" y="256536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adcf6"/>
                </a:solidFill>
                <a:latin typeface="Times New Roman"/>
              </a:rPr>
              <a:t>METODOLOGIA</a:t>
            </a: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UEST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adc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ujeres de éxito son definidas como aquellas que logran niveles altos en su actividad profesio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adcf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fesio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adcf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ujeres en los poderes polí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adcf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fesoras Titulares ordinarias (equivalente a tenu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adcf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ctoras, Decanas o simi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adcf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anagers med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adcf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ueñas de empres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adcf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mprendedoras ( 3 años antigüeda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adcf6"/>
                </a:solidFill>
                <a:latin typeface="Times New Roman"/>
              </a:rPr>
              <a:t>Instrumentos de investigación</a:t>
            </a: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UESTIONARIOS (100) realizados en inglés y traducidos al idioma del país (español – portugué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dc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ASADOS EN EL MÉTODO DE MEDICIÓN DE Like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2924280"/>
            <a:ext cx="8229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TREVISTAS EN PROFUND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4076640"/>
            <a:ext cx="8229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GRUPO DE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adc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udiantes universitarios ambos sex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adcf6"/>
                </a:solidFill>
                <a:latin typeface="Times New Roman"/>
              </a:rPr>
              <a:t>ETAPAS DEL PROYECTO</a:t>
            </a: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2143800"/>
            <a:ext cx="2374920" cy="3565440"/>
          </a:xfrm>
          <a:custGeom>
            <a:avLst/>
            <a:gdLst>
              <a:gd name="textAreaLeft" fmla="*/ 0 w 2374920"/>
              <a:gd name="textAreaRight" fmla="*/ 2374920 w 2374920"/>
              <a:gd name="textAreaTop" fmla="*/ 0 h 3565440"/>
              <a:gd name="textAreaBottom" fmla="*/ 3565800 h 35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13466c"/>
              </a:gs>
              <a:gs pos="100000">
                <a:srgbClr val="2a99ec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Marzo - Julio 2004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Objetivo: Análisis de los resultados del proyecto y elaboración del informe preliminar de la primera etapa. - Elaboración del informe preliminar de Argentina que contendrá detalles del marco teórico, del trabajo empírico, la metodología de recolección de información, análisis de los resultados y recomendaciones derivadas de los mism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24000" y="2409840"/>
            <a:ext cx="2449440" cy="319716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3197160"/>
              <a:gd name="textAreaBottom" fmla="*/ 3197520 h 319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33511d"/>
              </a:gs>
              <a:gs pos="100000">
                <a:srgbClr val="70b040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Sep2003-Marzo2004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Objetivo : Puesta en marcha del trabajo empírico del proyecto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- Prueba piloto y eventual redefinición de criterio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- Organización del trabajo de campo y operativo de recolección de información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9280" y="2332800"/>
            <a:ext cx="2160720" cy="319716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3197160"/>
              <a:gd name="textAreaBottom" fmla="*/ 3197520 h 319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574617"/>
              </a:gs>
              <a:gs pos="100000">
                <a:srgbClr val="be9932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Duración : Ag.-Sept. 2003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Objetivo : Revisión teórico-metodológica del tema, diseño del modelo conceptual y empírico y de la metodología de análisi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- Revisión bibliográfica de los últimos trabajos realizados sobre la temática del proyecto, elaborando un documento con un análisis de los distintos enfoques teóricos y metodológicos para discusión dentro del grupo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11970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74617"/>
              </a:gs>
              <a:gs pos="100000">
                <a:srgbClr val="be9932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ase I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84360" y="11970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511d"/>
              </a:gs>
              <a:gs pos="100000">
                <a:srgbClr val="70b04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16360" y="11970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3466c"/>
              </a:gs>
              <a:gs pos="100000">
                <a:srgbClr val="2a99ec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04000" y="2331360"/>
            <a:ext cx="2340000" cy="3076560"/>
          </a:xfrm>
          <a:custGeom>
            <a:avLst/>
            <a:gdLst>
              <a:gd name="textAreaLeft" fmla="*/ 0 w 2340000"/>
              <a:gd name="textAreaRight" fmla="*/ 2340000 w 2340000"/>
              <a:gd name="textAreaTop" fmla="*/ 0 h 3076560"/>
              <a:gd name="textAreaBottom" fmla="*/ 3076920 h 307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13476d"/>
              </a:gs>
              <a:gs pos="100000">
                <a:srgbClr val="000099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Julio-Diciembre 2004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Objetivo: Presentación de informe final y resultados comparativo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- Informe Final de Argentina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- Informe comparativo de países interviniente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- Ajustes del proyect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77080" y="11970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b5681"/>
              </a:gs>
              <a:gs pos="100000">
                <a:srgbClr val="00009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42920" y="1268280"/>
            <a:ext cx="15336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 Black"/>
              </a:rPr>
              <a:t>COMPLETADA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 Black"/>
              <a:ea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348000" y="1268280"/>
            <a:ext cx="15336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 Black"/>
              </a:rPr>
              <a:t>COMPLETADA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 Black"/>
              <a:ea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292720" y="1268280"/>
            <a:ext cx="15336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 Black"/>
              </a:rPr>
              <a:t>COMPLETADA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7524720" y="1413000"/>
            <a:ext cx="15336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b040"/>
                </a:solidFill>
                <a:latin typeface="Arial Black"/>
              </a:rPr>
              <a:t>EN PROCES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70b04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adcf6"/>
                </a:solidFill>
                <a:latin typeface="Times New Roman"/>
              </a:rPr>
              <a:t>ESTADO ACTUAL</a:t>
            </a: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118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59400" y="304812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30481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111680" y="1553760"/>
            <a:ext cx="6437160" cy="1387800"/>
            <a:chOff x="1111680" y="1553760"/>
            <a:chExt cx="6437160" cy="1387800"/>
          </a:xfrm>
        </p:grpSpPr>
        <p:sp>
          <p:nvSpPr>
            <p:cNvPr id="141" name=""/>
            <p:cNvSpPr/>
            <p:nvPr/>
          </p:nvSpPr>
          <p:spPr>
            <a:xfrm rot="3418800">
              <a:off x="1321920" y="17787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70b040"/>
                </a:gs>
                <a:gs pos="100000">
                  <a:srgbClr val="33511d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2286360" y="1950480"/>
              <a:ext cx="931680" cy="131760"/>
              <a:chOff x="2286360" y="1950480"/>
              <a:chExt cx="931680" cy="131760"/>
            </a:xfrm>
          </p:grpSpPr>
          <p:sp>
            <p:nvSpPr>
              <p:cNvPr id="143" name=""/>
              <p:cNvSpPr/>
              <p:nvPr/>
            </p:nvSpPr>
            <p:spPr>
              <a:xfrm>
                <a:off x="228636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37564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07692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15288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 rot="3418800">
              <a:off x="304308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2a99ec"/>
                </a:gs>
                <a:gs pos="100000">
                  <a:srgbClr val="13466c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4007880" y="1950480"/>
              <a:ext cx="931680" cy="131760"/>
              <a:chOff x="4007880" y="1950480"/>
              <a:chExt cx="931680" cy="131760"/>
            </a:xfrm>
          </p:grpSpPr>
          <p:sp>
            <p:nvSpPr>
              <p:cNvPr id="149" name=""/>
              <p:cNvSpPr/>
              <p:nvPr/>
            </p:nvSpPr>
            <p:spPr>
              <a:xfrm>
                <a:off x="400788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09716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79844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87440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 rot="3418800">
              <a:off x="469260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70b040"/>
                </a:gs>
                <a:gs pos="100000">
                  <a:srgbClr val="33511d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5729040" y="1950480"/>
              <a:ext cx="1218240" cy="131760"/>
              <a:chOff x="5729040" y="1950480"/>
              <a:chExt cx="1218240" cy="131760"/>
            </a:xfrm>
          </p:grpSpPr>
          <p:sp>
            <p:nvSpPr>
              <p:cNvPr id="155" name=""/>
              <p:cNvSpPr/>
              <p:nvPr/>
            </p:nvSpPr>
            <p:spPr>
              <a:xfrm>
                <a:off x="5729040" y="195048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845680" y="19515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762600" y="19526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861960" y="19936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 rot="3418800">
              <a:off x="641376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2a99ec"/>
                </a:gs>
                <a:gs pos="100000">
                  <a:srgbClr val="13466c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443240" y="20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96080" y="20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96280" y="20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48760" y="20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71640" y="3284640"/>
            <a:ext cx="16556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 han completado las muestras en Canada, EEUU, México,CaribeBras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Argent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987640" y="3357720"/>
            <a:ext cx="12970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 esta realizando el análisis de los datos fi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59280" y="3357720"/>
            <a:ext cx="10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atos finales comparados de 4 paí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43640" y="3284640"/>
            <a:ext cx="129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 está trabajando sobre los aspectos teóricos para construir un mode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adcf6"/>
                </a:solidFill>
                <a:latin typeface="Times New Roman"/>
              </a:rPr>
              <a:t>LOGROS O RESULTADOS</a:t>
            </a: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87720" y="4178160"/>
            <a:ext cx="5562360" cy="1325880"/>
          </a:xfrm>
          <a:prstGeom prst="ellipse">
            <a:avLst/>
          </a:prstGeom>
          <a:gradFill rotWithShape="0">
            <a:gsLst>
              <a:gs pos="0">
                <a:srgbClr val="0066cc"/>
              </a:gs>
              <a:gs pos="100000">
                <a:srgbClr val="29292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20601600">
            <a:off x="1461960" y="206496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ad9e2"/>
              </a:gs>
              <a:gs pos="100000">
                <a:srgbClr val="2969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20601600">
            <a:off x="1517400" y="1903320"/>
            <a:ext cx="5564160" cy="292284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18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0601600">
            <a:off x="1382400" y="1920960"/>
            <a:ext cx="5748840" cy="29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67" y="14960"/>
                </a:moveTo>
                <a:arcTo wR="10800" hR="10800" stAng="1359439" swAng="2520569"/>
                <a:lnTo>
                  <a:pt x="10800" y="10800"/>
                </a:lnTo>
                <a:close/>
              </a:path>
              <a:path fill="none" w="21600" h="21600">
                <a:moveTo>
                  <a:pt x="20767" y="14960"/>
                </a:moveTo>
                <a:arcTo wR="10800" hR="10800" stAng="1359439" swAng="2520569"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20601600">
            <a:off x="1434960" y="1888560"/>
            <a:ext cx="5698440" cy="29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 rot="20602200">
            <a:off x="1438200" y="1902960"/>
            <a:ext cx="5752440" cy="28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20601600">
            <a:off x="1440000" y="1900800"/>
            <a:ext cx="56826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20601600">
            <a:off x="4506840" y="3224160"/>
            <a:ext cx="1220760" cy="149868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20601600">
            <a:off x="4400280" y="2971440"/>
            <a:ext cx="2562120" cy="80964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528840" y="1221840"/>
            <a:ext cx="6919200" cy="4357800"/>
            <a:chOff x="528840" y="1221840"/>
            <a:chExt cx="6919200" cy="4357800"/>
          </a:xfrm>
        </p:grpSpPr>
        <p:sp>
          <p:nvSpPr>
            <p:cNvPr id="179" name=""/>
            <p:cNvSpPr/>
            <p:nvPr/>
          </p:nvSpPr>
          <p:spPr>
            <a:xfrm rot="20712600">
              <a:off x="781560" y="1993680"/>
              <a:ext cx="6413400" cy="281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3" y="15040"/>
                  </a:moveTo>
                  <a:arcTo wR="10800" hR="10800" stAng="1386854" swAng="2493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3" y="15040"/>
                  </a:moveTo>
                  <a:arcTo wR="10800" hR="10800" stAng="1386854" swAng="2493154"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20712600">
              <a:off x="4186440" y="3192120"/>
              <a:ext cx="1377720" cy="153684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352973"/>
                </a:gs>
                <a:gs pos="100000">
                  <a:srgbClr val="696097"/>
                </a:gs>
              </a:gsLst>
              <a:lin ang="143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20712600">
              <a:off x="5562360" y="3360600"/>
              <a:ext cx="1579320" cy="97920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003680" y="925200"/>
            <a:ext cx="6957360" cy="4863240"/>
            <a:chOff x="1003680" y="925200"/>
            <a:chExt cx="6957360" cy="4863240"/>
          </a:xfrm>
        </p:grpSpPr>
        <p:sp>
          <p:nvSpPr>
            <p:cNvPr id="183" name=""/>
            <p:cNvSpPr/>
            <p:nvPr/>
          </p:nvSpPr>
          <p:spPr>
            <a:xfrm rot="20601600">
              <a:off x="6073560" y="3263400"/>
              <a:ext cx="1555560" cy="109224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20539200">
              <a:off x="1323720" y="1811160"/>
              <a:ext cx="6316920" cy="3090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3" y="15040"/>
                  </a:moveTo>
                  <a:arcTo wR="10800" hR="10800" stAng="1386854" swAng="2493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3" y="15040"/>
                  </a:moveTo>
                  <a:arcTo wR="10800" hR="10800" stAng="1386854" swAng="2493154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20601600">
              <a:off x="4757760" y="3094200"/>
              <a:ext cx="1332000" cy="168876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ae8dd3"/>
                </a:gs>
                <a:gs pos="100000">
                  <a:srgbClr val="5007a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 rot="20601600">
            <a:off x="2979360" y="2617560"/>
            <a:ext cx="2695680" cy="13395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20601600">
            <a:off x="3056040" y="2852280"/>
            <a:ext cx="2624040" cy="1098720"/>
          </a:xfrm>
          <a:prstGeom prst="ellipse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51280" y="170028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 han ratificado 3 de las 4 hipóte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96000" y="1989000"/>
            <a:ext cx="223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e ha determinado que los factores internos son los que mas fuertemente contribuyen al éxi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92360" y="4149720"/>
            <a:ext cx="230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e advierten fuertes similitudes en las mujeres de la muest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79640" y="3573360"/>
            <a:ext cx="12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58920" y="2349360"/>
            <a:ext cx="1800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Se tienen dudas con relación a la influencia de los mento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adcf6"/>
                </a:solidFill>
                <a:latin typeface="Times New Roman"/>
              </a:rPr>
              <a:t>PUBLICACIONES</a:t>
            </a: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2003 2 PUBLICACIONES internacionales con refera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2004 5 PUBLICACIONES internacionales con refera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proce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dc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5 publicaciones que se enviarán a la AOM y a la AIB, a los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dc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1 libro que será publicado por Edward Elgar Publis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14:20:55Z</dcterms:created>
  <dc:creator>Silvia Inés MONSERRAT LLUNA</dc:creator>
  <dc:description/>
  <cp:keywords/>
  <dc:language>en-US</dc:language>
  <cp:lastModifiedBy>Silvia Inés MONSERRAT LLUNA</cp:lastModifiedBy>
  <dcterms:modified xsi:type="dcterms:W3CDTF">2004-12-06T01:55:41Z</dcterms:modified>
  <cp:revision>6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8011033</vt:lpwstr>
  </property>
</Properties>
</file>